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买家发来已付款的截图或邮件让你发货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你应该怎么做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直接与买家联系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根据买家需求发货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来笔交易订单不容易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直接发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赶紧发货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不然买家会投诉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在“已卖出的宝贝”中查看此笔交易状态是否为“买家已付款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确定为“买家已付款”状态后再发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买家发来已付款的截图或邮件让你发货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你应该怎么做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直接与买家联系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根据买家需求发货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来笔交易订单不容易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直接发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赶紧发货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不然买家会投诉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D.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在“已卖出的宝贝”中查看此笔交易状态是否为“买家已付款”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确定为“买家已付款”状态后再发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4779000" y="4947120"/>
            <a:ext cx="533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12-10T06:36:42Z</dcterms:modified>
  <cp:revision>1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