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476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83052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淘宝规则中规定的违规行为有几大类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两大类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般违规行为和严重违规行为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不分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大类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轻微违规行为、一般违规行为、严重违规行为和特别严重违规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三大类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轻微违规行为、一般违规行为和严重违规行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7347000">
            <a:off x="10342440" y="6984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45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淘宝规则中规定的违规行为有几大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A.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两大类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一般违规行为和严重违规行为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不分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大类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轻微违规行为、一般违规行为、严重违规行为和特别严重违规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三大类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轻微违规行为、一般违规行为和严重违规行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7347000">
            <a:off x="1730880" y="1975320"/>
            <a:ext cx="533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52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12-10T06:36:05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