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04FB-16A3-45DD-A24E-C0DB9C6694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950-7713-4AC8-BBA4-AF2B9421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E4E-CCB6-423A-A976-41D8C4AC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7B7-C651-40BE-9182-8F79C1C2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C51-1953-44CB-A441-FE197E69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D3F-E7B8-41F4-BB43-CDB1A894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151-8A86-4DB7-906B-18DEC128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A57-2E17-4DA7-8B6E-55D7CBE6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C78-11E8-48E4-8DDB-B9038DB8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B29-46D0-44B9-AB0B-AB7434EB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A3C-89D5-4606-A228-50F75BC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D55-93C9-4918-A37C-8E21B3D5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910-F2CE-4C7E-91FE-A0D1920D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EB98-2314-474D-88D4-6E14E865C420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590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</a:rPr>
              <a:t>赞助单位</a:t>
            </a:r>
            <a:endParaRPr b="0" lang="en-US" sz="6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1438200"/>
            <a:ext cx="806292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六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祺创太阳能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神光新能源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远征流体控制股份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4382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铭越信息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华阳印刷包装设备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四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五研究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50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兵器工业集团公司第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天惠科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22Z</dcterms:modified>
  <cp:revision>3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