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AE7E-E8AA-4FA8-9B90-D2487F707B3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24DE-40C7-4445-BC4A-545B4478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D0F6-C8F9-4135-9493-001E969D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E017-2667-4600-8536-24394584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207-7BFF-4913-97D8-23B7D7D1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1934-6CC2-4976-9A01-8FCC664B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40D7-8C10-4650-8907-858E7EF7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5D2E-B1E0-45AC-8268-078E1DAB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66AB-B2C7-41AC-AC54-89761C21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3EB8-4CE3-4971-A575-756E93AA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48AC-1B9B-409B-A1E1-701F63D2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0B87-ED20-41DB-9934-E48BFB25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AC1D-BEAE-4422-BD91-CDB60745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9B08-539C-4066-8BFE-69038EA10FC5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68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导出新风采  游出全世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68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传承导游文化  美丽智慧同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600200"/>
            <a:ext cx="9144000" cy="3598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华夏风光世无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如诗如画游家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3598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揽众山水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阅古今之事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        一口之才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将游历道说 </a:t>
            </a:r>
            <a:endParaRPr b="0" lang="en-US" sz="4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3598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好山好水家乡美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            尽心尽责导八方</a:t>
            </a:r>
            <a:endParaRPr b="0" lang="en-US" sz="4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30Z</dcterms:modified>
  <cp:revision>20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