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2FB3-DCE9-49FA-8327-A4B7A7B230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B58-21FA-4BC6-8860-C2A034C5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6507-FE83-415C-8272-3D002A1B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AFDA-E536-40DA-9DAF-CD3E90C6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5E2-AF12-4B23-B49C-E5D89FBC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0E3E-7CA9-40E3-B313-D875DCFB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74C-3A1A-4EFC-97AD-19B858BC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6C58-D6FE-4E47-8D8A-2022F576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007-58D0-437B-8D57-57164A83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51C5-FCAC-4F68-870F-512C900E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6EA3-ED7B-43FF-B7C2-5396A75B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82F-4740-43BB-9AD9-CA0B230C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51A9-F0A0-49B2-8A1B-07A87C2B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6A2A-D8FB-4A3B-B98D-DDDC837A5BF6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17480"/>
            <a:ext cx="9144000" cy="1439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国家旅游局副局长杜江致辞 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517840"/>
            <a:ext cx="9144000" cy="1439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陕西省副省长景俊海致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38Z</dcterms:modified>
  <cp:revision>18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