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C05-0EB7-4F21-BADD-8D5AD75CDD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40C-3C03-4CFD-A773-AD1E103A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707-6811-4446-BF44-5025E5BE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8C6-111B-4581-9CE9-7F8299BC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37F-E5D5-4BED-A884-AF095C3B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F88-12AF-4264-9111-C2D416A9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C5E-8C2D-4132-9A65-76F9614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25D-161B-435A-A0CA-B8402DEE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63F-0F73-4A9B-A462-15B52EE8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86A-69C8-4EBA-A250-6F61CE1D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2A1-7C0D-4A25-B626-F6669421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7F1-73D2-40B2-B872-82B761D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79B-5A92-4939-B65F-7B5FA7B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CC59-1C6C-45E5-9629-0751DCB540D4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8560" y="719280"/>
            <a:ext cx="7093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开根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谐网络科技公司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何惠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航天大学计算机系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建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易软件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评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720720" y="0"/>
            <a:ext cx="14414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简勇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易艳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黄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大学科技部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监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-32400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54Z</dcterms:modified>
  <cp:revision>1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