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3265-737E-4FB8-99A7-06F2BF0F00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497-B6A4-4321-B92D-590665A6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531D-0D49-4520-9409-BB60B069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98E-BAFB-4E2F-956B-B322BAFD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3C9-A689-440D-835E-9A65C136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C3F-84B3-40FC-9A61-C2D0BF8A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608-B6A1-4089-9444-D6BEA78A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695D-4B5E-47F3-BE13-B700D39A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6CF-E543-45B5-805A-20B2FD5B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0257-C4F8-4FBC-9268-5D7ED9AC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844-4877-45E0-9C27-C3B37CF4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B42-A311-4B83-9B41-CD844BA1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9C7-4124-4298-871B-B9DF314B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A5CC-8D8D-4AFA-B154-E604E0FA6E46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采用百分制，选手满分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0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专家评审团，去掉一个最高分及一个最低分后的剩余评委的平均值，再取重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80%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即满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8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大众评审团打分总分占选手最终实际总分的权重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0%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即满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大众评审团每位成员有三张打分牌：优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、良好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1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、一般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1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计分细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260280"/>
            <a:ext cx="1008000" cy="88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79640" y="620640"/>
            <a:ext cx="676908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每位选手演讲完毕后，大众评审团当场亮分，大会主持分别宣布优秀、良好、一般票数。举牌即为有效分数，不举牌即视为弃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根据有效票数，计算大众评审团总分，除以有效票数相应的满分总分，再乘以大众评审团占选手最终实际总分的满分权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，即为该选手大众评审团部分的最终得分。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保留小数点后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计分细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14Z</dcterms:modified>
  <cp:revision>17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