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  <p:custShowLst>
    <p:custShow name="ShowIndex" id="0">
      <p:sldLst>
        <p:sld r:id="rId5"/>
      </p:sldLst>
    </p:custShow>
    <p:custShow name="ShowBlank" id="1">
      <p:sldLst>
        <p:sld r:id="rId6"/>
      </p:sldLst>
    </p:custShow>
    <p:custShow name="ShowPlayer" id="2">
      <p:sldLst>
        <p:sld r:id="rId7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CA12F-2E27-4ECD-BB55-5614B9073A88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一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默认空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过画面越简单越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它作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画面过渡刷新使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其风格与其它幻灯要匹配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 ShowBlank,ShowPlayer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二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选手信息展示主题幻灯。内容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会被打分软件动态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 ShowBlank,ShowPlayer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三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默认空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过画面越简单越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它作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画面过渡刷新使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其风格与第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最好匹配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 ShowBlank,ShowPlayer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四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为选手信息展示幻灯。里面的文本框及图片框不能删除，但可以随意拖动。此模板不展示评委照片，所以照片框在可视界面之外。文字、颜色、形状、布局可调整修改。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修改层的上下关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 ShowBlank,ShowPlayer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B1B13-99B4-469B-AF91-03124E62A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9250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09480" y="4182840"/>
            <a:ext cx="79250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53D08-A3D5-4037-82F0-0A76B13F6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94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02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B9A2C-071D-41DE-B074-68CA33D67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88960" y="205740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68800" y="205740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09480" y="418284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88960" y="418284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68800" y="418284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9383D-8C13-44C5-B692-99C8335D6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09480" y="2057400"/>
            <a:ext cx="792504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49B14-CEEF-443C-A9AF-E867458FA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92504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1CB4F-0386-4D8D-8930-728C3911C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D9AA9-1EA2-408A-A4C2-EAEA26B71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7F9E6-D540-48EA-BD47-07C9E33EA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837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2EB35-84CC-4A1B-AE3C-881860B60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094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2F0FA-3959-4836-81CE-6ED044D6D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02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E72A4-3F15-490F-A60B-2BCD972CC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09480" y="4182840"/>
            <a:ext cx="79250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59F3A-5E7D-4470-BC60-4A6BB7A9F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2057400"/>
            <a:ext cx="792504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19960" indent="-22392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568160" indent="-22392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16000" indent="-22392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16000" indent="-22392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16000" indent="-22392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11280" y="623700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804DB-0FD6-49E7-8FE9-A1CC98893DBD}" type="slidenum">
              <a:rPr b="0" lang="en-US" sz="1200" spc="-1" strike="noStrike">
                <a:solidFill>
                  <a:srgbClr val="ffffff"/>
                </a:solidFill>
                <a:latin typeface="Garamond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2205000"/>
            <a:ext cx="9144000" cy="2376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Arial"/>
                <a:ea typeface="黑体"/>
              </a:rPr>
              <a:t>选手参赛信息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3716280"/>
            <a:ext cx="9144000" cy="27370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-2484360" y="836640"/>
            <a:ext cx="2016000" cy="2592360"/>
          </a:xfrm>
          <a:prstGeom prst="rect">
            <a:avLst/>
          </a:prstGeom>
          <a:solidFill>
            <a:srgbClr val="d29f2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1</a:t>
            </a:r>
            <a:r>
              <a:rPr b="0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照片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692280"/>
            <a:ext cx="9144000" cy="26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2</a:t>
            </a:r>
            <a:r>
              <a:rPr b="0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号  选手名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716280"/>
            <a:ext cx="9144000" cy="27370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3</a:t>
            </a:r>
            <a:r>
              <a:rPr b="0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参赛内容及所属单位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9468000" y="3789360"/>
            <a:ext cx="3024000" cy="134136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4</a:t>
            </a:r>
            <a:r>
              <a:rPr b="0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内容类别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9756720" y="620640"/>
            <a:ext cx="1548000" cy="57636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5</a:t>
            </a:r>
            <a:r>
              <a:rPr b="0" lang="zh-CN" sz="2800" spc="-1" strike="noStrike">
                <a:solidFill>
                  <a:srgbClr val="ffffff"/>
                </a:solidFill>
                <a:latin typeface="Arial Black"/>
                <a:ea typeface="黑体"/>
              </a:rPr>
              <a:t>选手类别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4T05:16:28Z</dcterms:created>
  <dc:creator>行易软件</dc:creator>
  <dc:description/>
  <cp:keywords/>
  <dc:language>en-US</dc:language>
  <cp:lastModifiedBy>行易软件</cp:lastModifiedBy>
  <dcterms:modified xsi:type="dcterms:W3CDTF">2020-12-02T01:22:15Z</dcterms:modified>
  <cp:revision>125</cp:revision>
  <dc:subject/>
  <dc:title>模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501033</vt:lpwstr>
  </property>
</Properties>
</file>