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C4A5-9C2F-4082-BC65-1D3D1DC4DDF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展示选手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2806-FBCF-4130-B134-70376B09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9080-1869-45AB-85BA-0AA67975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BD5-51AB-400C-9468-2D94505D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230C-9E76-4315-AE78-22C5819D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B7B2-DD9A-4B52-A883-91C130AC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3EFA-82AA-4521-9632-C163D02C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1CED-7F78-4DE7-A97A-8347C76D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402D-9030-46AD-872B-974EA656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F5FD-4520-409B-BA4F-3C55E5D3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7DFF-94C3-4AFC-9EF3-D6DF518B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2747-4987-4F4A-81D3-F16914CD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7006-199A-4481-ADC3-33097510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3B79-5A6A-4A45-94B7-A919313A2581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97080" cy="1008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117080" y="0"/>
            <a:ext cx="1692360" cy="620640"/>
          </a:xfrm>
          <a:prstGeom prst="foldedCorner">
            <a:avLst>
              <a:gd name="adj" fmla="val 1250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20-12-02T01:20:57Z</dcterms:modified>
  <cp:revision>11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