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9752-1776-46AF-904A-DCCD3057DAA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C236-1D1B-4D16-8131-004CD6C0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AC08-1558-489D-AFE6-05FFDABA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446-05E6-4F58-B5D1-293FF093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109-BC20-43A3-B0E3-2597D5E5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405-39CB-41E3-AA99-A193F298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869-431B-41E6-ACBD-95B7B823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E208-0E8A-4451-9C7B-CD0AE9D7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9352-C2C3-450D-A7EB-7CAC785A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2A9-5E8D-4F3A-93B9-9A5A8569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84F-C04A-4F75-81C6-A53B3D41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2B2-4F9C-4312-B66E-C3A0E0B7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ADAF-298A-4EFA-8185-6E559799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BC5F-FB22-45D1-BB9B-DCB2A3D437CA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484360" y="836640"/>
            <a:ext cx="2016000" cy="259236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24000" cy="1341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620640"/>
            <a:ext cx="154800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1-30T08:21:22Z</dcterms:modified>
  <cp:revision>12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