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W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72FC-A074-4C0C-84AD-08D6AF1EB91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评委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评委信息展示幻灯。里面的文本框及图片框不能删除，但可以随意拖动。此模板不展示选手照片，所以照片框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5E69-7A03-44D6-B138-EAA8435B5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445E-FD8D-4F03-86DE-9BB39E05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F285-AA71-4840-9BDF-B76D572A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6F63-C287-4506-B187-7E8B71033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469B-C095-4E8B-BAD8-D312BBEE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4A59-CDA8-4394-9B38-97FE8975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8852-7090-4608-B57F-FBE3E06E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9CE1-1CD6-47FB-AA99-87D2BC49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BC50-45D9-45B6-803F-71F12691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8C6A-6AD1-40C4-8D8B-D615C614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3329-F2E2-49FD-84DB-6F8572B7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43BD-B875-45F4-BD6D-37F16415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7E03-2208-46AA-A07E-F01A59BD4960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专家评委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2484360" y="765000"/>
            <a:ext cx="2160360" cy="266400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92280"/>
            <a:ext cx="9144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评委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3716280"/>
            <a:ext cx="698508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评委描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28T11:16:37Z</dcterms:modified>
  <cp:revision>12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