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F0A3-D2A5-4262-BF71-C0845291CB4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八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333080" y="5300640"/>
            <a:ext cx="5689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65440" y="5373720"/>
            <a:ext cx="6264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加权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定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03640" y="5157720"/>
            <a:ext cx="4572000" cy="935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7237440" y="-115236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xx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5157720"/>
            <a:ext cx="30207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8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14:28Z</dcterms:modified>
  <cp:revision>730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