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9043-1103-4279-950F-78CFA196C4A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6364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1124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124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144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144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276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2276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744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744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306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306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357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357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3896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3896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4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4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9164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164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77308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77308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85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85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933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933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97492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9749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5520" y="-2187720"/>
            <a:ext cx="115092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334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332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356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18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4168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5136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160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1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2152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4908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10080"/>
            <a:ext cx="91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734080"/>
            <a:ext cx="5867280" cy="719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84360" y="7966080"/>
            <a:ext cx="31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6364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44720" y="5373720"/>
            <a:ext cx="7201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-4564080"/>
            <a:ext cx="489600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x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0" y="-420372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91636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685800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01:14Z</dcterms:modified>
  <cp:revision>693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