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1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  <p:custShow name="RemarkShow" id="7">
      <p:sldLst>
        <p:sld r:id="rId1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A96A-7544-4B6D-853A-0F891F1B848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所有项目得分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每项得分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评委评语幻灯，有四个评语文本框，四个文本框的动画自己可以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也可以删除动画。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可以增加元素，但不能删除固有的元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修改图层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幻灯中的元素可以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不能使用层命令。可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八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9856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37120" y="898560"/>
            <a:ext cx="381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9892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32360" y="907920"/>
            <a:ext cx="3603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9220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128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928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436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2456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0872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128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3862440"/>
            <a:ext cx="117288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9094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9094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990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990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06836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06836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114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114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195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195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274880" y="44280"/>
            <a:ext cx="100836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274880" y="141300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354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354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435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435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5152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5152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5963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963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637800" y="4608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6378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9880" y="-1971720"/>
            <a:ext cx="1266840" cy="4636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792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8640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2596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6588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420720" y="-146700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4581360"/>
            <a:ext cx="7490160" cy="86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7245360"/>
            <a:ext cx="504180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5516640"/>
            <a:ext cx="4932360" cy="10080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0" y="-1251000"/>
            <a:ext cx="31305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612720" y="5589720"/>
            <a:ext cx="403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歌曲演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1297080" cy="12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1928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-139536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451640" y="187200"/>
            <a:ext cx="1297080" cy="505080"/>
          </a:xfrm>
          <a:prstGeom prst="rect">
            <a:avLst/>
          </a:prstGeom>
          <a:noFill/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黑体"/>
              </a:rPr>
              <a:t>14</a:t>
            </a:r>
            <a:r>
              <a:rPr b="1" lang="zh-CN" sz="2000" spc="-1" strike="noStrike">
                <a:solidFill>
                  <a:srgbClr val="ffff00"/>
                </a:solidFill>
                <a:latin typeface="Arial Black"/>
                <a:ea typeface="黑体"/>
              </a:rPr>
              <a:t>附加名</a:t>
            </a: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1640" y="765000"/>
            <a:ext cx="1297080" cy="36036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隶书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333080" y="5300640"/>
            <a:ext cx="568944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165440" y="5373720"/>
            <a:ext cx="626436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加权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定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03640" y="5157720"/>
            <a:ext cx="4572000" cy="935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隶书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隶书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-7237440" y="-115236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xxxx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-3916440"/>
            <a:ext cx="1800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5157720"/>
            <a:ext cx="30207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04292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-515880" y="-2475000"/>
            <a:ext cx="2879640" cy="900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03520" y="-2475000"/>
            <a:ext cx="1728720" cy="900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1297080" y="-370044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404120" y="-2475000"/>
            <a:ext cx="2521080" cy="900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2637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7597800" y="458136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19280" y="-3627360"/>
            <a:ext cx="2016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-5581800" y="404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-8677440" y="1268280"/>
            <a:ext cx="19226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01:111  PW02:2222  PW03:3333  PW04:444444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-8605800" y="2492280"/>
            <a:ext cx="18938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05:555  PW06:666 PW07:777 PW08:888  PW08:88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8677440" y="3716280"/>
            <a:ext cx="19010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09:999  PW10:1010  PW11:1111  PW12:12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8677440" y="4940280"/>
            <a:ext cx="19010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13:1313 PW14:14   PW15:1515  PW16:16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1403280" cy="6858000"/>
          </a:xfrm>
          <a:prstGeom prst="rect">
            <a:avLst/>
          </a:prstGeom>
          <a:solidFill>
            <a:srgbClr val="000080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专 家 评 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1655640" y="-2332080"/>
            <a:ext cx="1655640" cy="1800360"/>
          </a:xfrm>
          <a:prstGeom prst="rect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-2043000"/>
            <a:ext cx="1800360" cy="11253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10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98920" y="-2017800"/>
            <a:ext cx="3241440" cy="112572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黑体"/>
              </a:rPr>
              <a:t>2018</a:t>
            </a:r>
            <a:r>
              <a:rPr b="1" lang="zh-CN" sz="6000" spc="-1" strike="noStrike">
                <a:solidFill>
                  <a:srgbClr val="ffffff"/>
                </a:solidFill>
                <a:latin typeface="Arial Black"/>
                <a:ea typeface="黑体"/>
              </a:rPr>
              <a:t>全国大赛</a:t>
            </a: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黑体"/>
              </a:rPr>
              <a:t>•</a:t>
            </a:r>
            <a:r>
              <a:rPr b="1" lang="zh-CN" sz="6000" spc="-1" strike="noStrike">
                <a:solidFill>
                  <a:srgbClr val="ffffff"/>
                </a:solidFill>
                <a:latin typeface="Arial Black"/>
                <a:ea typeface="黑体"/>
              </a:rPr>
              <a:t>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8-12-29T02:14:28Z</dcterms:modified>
  <cp:revision>730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