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1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  <p:custShow name="RemarkShow" id="7">
      <p:sldLst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053A-6161-42AC-8508-E0E07380F97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项目总体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评委评语幻灯，有四个评语文本框，四个文本框的动画自己可以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也可以删除动画。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框拖到可视界面之外。文字、颜色、形状、大小、布局可调整修改。可以增加元素，但不能删除固有的元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修改图层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幻灯中的元素可以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不能使用层命令。可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八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92360" y="898560"/>
            <a:ext cx="144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3664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54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54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800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76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7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672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789360"/>
            <a:ext cx="100944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2764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0872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0872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12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612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58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58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39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739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819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819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898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898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979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79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059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59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403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1403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18180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1818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568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01736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2720" y="-204300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5120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9076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2924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6916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0872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4508640"/>
            <a:ext cx="734400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540720" y="4221000"/>
            <a:ext cx="50421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80000" y="5516640"/>
            <a:ext cx="504000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300640"/>
            <a:ext cx="514836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45336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53264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8974080"/>
            <a:ext cx="3132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5661000"/>
            <a:ext cx="313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444720" y="5445000"/>
            <a:ext cx="7201080" cy="1008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合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-3484440"/>
            <a:ext cx="489564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xx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828360" y="-4419720"/>
            <a:ext cx="35985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8029440" y="6858000"/>
            <a:ext cx="352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-8677440" y="1268280"/>
            <a:ext cx="19226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1:111  PW02:2222  PW03:3333  PW04:444444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8605800" y="2492280"/>
            <a:ext cx="18938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5:555  PW06:666 PW07:777 PW08:888  PW08:8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8677440" y="3716280"/>
            <a:ext cx="19010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9:999  PW10:1010  PW11:1111  PW12:12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8677440" y="4940280"/>
            <a:ext cx="19010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13:1313 PW14:14   PW15:1515  PW16:16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403280" cy="6858000"/>
          </a:xfrm>
          <a:prstGeom prst="rect">
            <a:avLst/>
          </a:prstGeom>
          <a:solidFill>
            <a:srgbClr val="00008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专 家 评 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-1655640" y="-2332080"/>
            <a:ext cx="1655640" cy="1800360"/>
          </a:xfrm>
          <a:prstGeom prst="rect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-2043000"/>
            <a:ext cx="1800360" cy="11253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10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98920" y="-2017800"/>
            <a:ext cx="3241440" cy="112572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8-12-29T02:00:16Z</dcterms:modified>
  <cp:revision>669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