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6AE0-81B1-459C-8EF9-4584ADF8569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A13-6E9C-4F54-B033-68DB0653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20C-81AA-49E9-93F2-79E1C1D9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F06-9BC2-4803-B7A0-C02756BC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B74-D441-4E9D-A196-ADA54F2E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897-C52F-4E0B-BC02-191BE323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55C-2AEA-415F-9310-6A463D50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6AA-7AEC-4F2F-B17C-315D94F7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57F-1894-4643-A389-0778EB3F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9C2-DF77-4E56-85C3-DF0513F8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932-C798-409A-B560-1FA7AFA3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96C-9E65-4073-ADA8-F2DD00B9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850-FF5A-4D99-81B1-B848DFD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A53A-D122-463A-AAAA-654060285D8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937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7760" y="69048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4670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9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22399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96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30132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6596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37861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6596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45594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6596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53323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61056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9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52640" y="79549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310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52640" y="872640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52640" y="95090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90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76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52640" y="1027764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764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505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2640" y="110473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238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52640" y="118108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41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967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52640" y="1258884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700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2640" y="133570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41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06640" y="148384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14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6640" y="156099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06640" y="163926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926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6640" y="171608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26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26600" y="87282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26600" y="95058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26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26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26600" y="118206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26600" y="12593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26600" y="133668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380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380600" y="15611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380600" y="16389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80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67760" y="0"/>
            <a:ext cx="155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840" y="6904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04840" y="1076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04840" y="1463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18511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04840" y="2236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4840" y="2624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04840" y="3011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339876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4840" y="3784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4172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04840" y="455940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4946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4840" y="53323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04840" y="571968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6107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6494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7580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57480" y="75772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77280" y="75772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8353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7480" y="83487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75480" y="83469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9126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7480" y="91314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75480" y="9131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9899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7480" y="98996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75480" y="98996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379160" y="6904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79160" y="1077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379160" y="14842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379160" y="18669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379160" y="22399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379160" y="2612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79160" y="2986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379160" y="33447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380600" y="3728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380600" y="4102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380600" y="4479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380600" y="4848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380600" y="52214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80600" y="5622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380600" y="59961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380600" y="6369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531440" y="7577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531440" y="83502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31440" y="912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31440" y="9896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0:47Z</dcterms:modified>
  <cp:revision>35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