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83D-4EB5-4F17-9867-2044758A18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82-C5E4-43CD-94CB-04E50FC8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3B8-CD49-4782-BF76-2615D394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4CF-FA96-4FBE-BF6D-889C6E6C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E48-23C1-4A56-B081-ADECFB4A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63A-9E5F-4691-A2D7-AEAE0E8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46F-3862-447A-A294-F6134102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0DE-8FF9-4BB6-8246-ED8058E5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556-4A01-4E9D-91E5-FA16D72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C5F-7959-4966-B085-E6FE88D0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133-FBD4-405C-B7A9-966806F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2DE-D13D-4590-93E3-5D58937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072-C104-40AB-B6B1-DE75EC3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3599-7347-4135-8F76-BA283690D8F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" y="69048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69048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6904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14605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4080" y="14605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4080" y="22399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" y="3008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3008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" y="3781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781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" y="4546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54080" y="4546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" y="5321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4080" y="5321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03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" y="6084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54080" y="60847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564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420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420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20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20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420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420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84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436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4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59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44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28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17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26179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0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30081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0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97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3397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2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3782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68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1688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59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4840" y="45594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4840" y="4941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27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4840" y="5327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0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4840" y="5710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0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5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4840" y="6095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095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89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6489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4040" y="-30240"/>
            <a:ext cx="171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2604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6179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6040" y="300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26040" y="3397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9280" y="3782880"/>
            <a:ext cx="3101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26040" y="4168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040" y="45594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6040" y="4941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5327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6040" y="5710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6040" y="60958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6489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1:41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