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1041-AB8C-4C21-9FA7-1EF81885982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F26-FBDF-47D6-B440-EA48E426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44B-3E43-40F8-809E-A220C3D5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E24-E40D-4BC8-BAA3-E78E4FE6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A66-43A4-453B-9C6C-AFFE94C1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EF5-2799-4DEE-847E-237C9FA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F3F-27C3-433C-AF2F-D1B2700A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3AF-5095-45A6-98B1-51EA5F8A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A79-D9E0-425E-9179-33DF0330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0E0-EF49-43D9-97F5-88529B68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E91-C0D9-4DA6-B106-C9C203B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2C5-C1F0-4AD7-8902-E951C23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D3D-CE8D-40ED-8D16-80A3DB9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8D5-1220-4660-8C33-BCB8310027A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160" y="69048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0640" y="69048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07360" y="690480"/>
            <a:ext cx="1652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160" y="14605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0640" y="14605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08800" y="14605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160" y="22399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640" y="22399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8800" y="22399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60" y="3008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0640" y="300816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08800" y="300816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60" y="3781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0640" y="378144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08800" y="378144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160" y="4546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0640" y="454644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08800" y="454644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60" y="5321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0640" y="532116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08800" y="532116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60" y="60847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0640" y="60847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08800" y="60847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79549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872496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8440" y="95043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1027440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8440" y="110473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8440" y="1181088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38440" y="1258560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33491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440" y="1483848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440" y="1560816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440" y="1638792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1716084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159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592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592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592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592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1592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1592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1592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6904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2920" y="14605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22399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300816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2920" y="378144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2920" y="454644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2920" y="532116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2920" y="60847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6890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1000" y="10746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1000" y="14619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1000" y="184932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1000" y="22352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1000" y="26226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1000" y="3009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1000" y="339732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1000" y="378288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1000" y="41702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1000" y="45576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1000" y="49449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1000" y="53308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1000" y="57182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1000" y="61056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1000" y="6492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14520" y="70610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14520" y="74613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12720" y="783108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12720" y="8194680"/>
            <a:ext cx="270540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03400" y="3786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03400" y="4173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03400" y="4560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03400" y="4948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03400" y="5335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03400" y="5722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3400" y="6110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03400" y="6497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4840" y="0"/>
            <a:ext cx="312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26040" y="0"/>
            <a:ext cx="155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22680" y="685800"/>
            <a:ext cx="28288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22680" y="10717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22680" y="14558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22680" y="18414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22680" y="22255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22680" y="26146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22680" y="30099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22680" y="33940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22680" y="3780000"/>
            <a:ext cx="28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22680" y="41655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22680" y="45561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22680" y="49388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22680" y="53244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22680" y="57117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22680" y="60976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22680" y="64864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41760" y="70596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40320" y="74581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38520" y="78296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38520" y="81932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10-15T02:48:27Z</dcterms:modified>
  <cp:revision>37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