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DE0D-79AA-442F-A26E-87DF082375F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6FF5-BF17-40D4-B15E-031F4F58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D6FA-69FA-4353-AB30-EDCFED09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D563-1679-4A44-8CF7-F2D63A38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7E8E-6B5D-4E40-9461-A943FA5EF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0FF5-C35A-40F0-A17E-54744644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86FC-E2C1-46AF-A9D0-DDF4BE85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FE27-C20E-4D79-AB9D-89E2C46C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BE20-AD97-48CF-9EDB-2A327AAE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A9FF-DAF6-4797-A720-66AB9DAE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E0F5-F063-416B-909A-1CB2E5F1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7F2D-178F-46D5-ADC5-59235768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9CC8-1E21-4889-8352-69503D1B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A0F7-E192-4F4E-A1D5-F7EF059CF847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63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04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7240" y="69048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690480"/>
            <a:ext cx="5615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67760" y="690480"/>
            <a:ext cx="1706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240" y="146052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1460520"/>
            <a:ext cx="5615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6596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240" y="223992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2239920"/>
            <a:ext cx="5615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65960" y="22399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240" y="300816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3008160"/>
            <a:ext cx="5615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65960" y="30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240" y="378144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3781440"/>
            <a:ext cx="5615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65960" y="37814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240" y="454644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4546440"/>
            <a:ext cx="5615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65960" y="45464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0" y="532116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5321160"/>
            <a:ext cx="5615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6596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240" y="608472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6084720"/>
            <a:ext cx="5615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6596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52560" y="795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38440" y="795492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72440" y="7954920"/>
            <a:ext cx="1706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52560" y="872496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38440" y="8724960"/>
            <a:ext cx="56149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70640" y="872496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52560" y="9504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38440" y="950436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70640" y="95043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52560" y="10274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38440" y="10274400"/>
            <a:ext cx="56149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70640" y="102744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52560" y="11047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38440" y="1104732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70640" y="110473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52560" y="1181088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38440" y="1181088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70640" y="11810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52560" y="1258560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38440" y="1258560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70640" y="12585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52560" y="13349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38440" y="1334916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70640" y="13349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0" y="1483848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440" y="14838480"/>
            <a:ext cx="56149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26440" y="14838480"/>
            <a:ext cx="1706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0" y="1560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440" y="1560816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24640" y="156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0" y="1638792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440" y="16387920"/>
            <a:ext cx="56149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24640" y="1638792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0" y="171608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440" y="1716084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24640" y="171608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684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6840" y="14605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6840" y="2239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6840" y="30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6840" y="3781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6840" y="4546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96840" y="5321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96840" y="60847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3600" y="7954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3600" y="8724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3600" y="9504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3600" y="102744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3600" y="110473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3600" y="1181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3600" y="12585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3600" y="13349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7600" y="14838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47600" y="156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7600" y="163879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7600" y="17157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0"/>
            <a:ext cx="5851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6937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1000" y="69048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54800" y="689040"/>
            <a:ext cx="1719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0796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1000" y="107640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54800" y="10746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4670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1000" y="146376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54800" y="14590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8525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1000" y="185112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54800" y="1844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2399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1000" y="223668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54800" y="22287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272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1000" y="262404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54800" y="26179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0132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21000" y="301140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54800" y="30132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4005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1000" y="339876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54800" y="33973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786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1000" y="378468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54800" y="3782880"/>
            <a:ext cx="1706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1734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1000" y="417204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54800" y="41688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5608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1000" y="455940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54800" y="45594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9467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1000" y="494676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54800" y="4941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5334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1000" y="533232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54800" y="5327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57196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21000" y="571968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54800" y="57150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61070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1000" y="610704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54800" y="61009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4944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1000" y="649440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4800" y="6489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360" y="70660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14520" y="706284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73880" y="70628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360" y="74674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14520" y="746280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72440" y="74613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20" y="78278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12720" y="7832880"/>
            <a:ext cx="57582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70640" y="78328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20" y="8196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12720" y="8196120"/>
            <a:ext cx="57582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370640" y="81961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01600" y="6904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01600" y="10764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01600" y="14637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01600" y="18511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01600" y="22384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01600" y="2625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01600" y="30132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01600" y="34005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03400" y="37861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03400" y="41734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03400" y="4560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03400" y="49482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03400" y="53355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03400" y="57229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03400" y="61102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03400" y="64976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09520" y="7062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09520" y="74646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08080" y="78296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08080" y="81932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04840" y="0"/>
            <a:ext cx="621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8-09-26T03:42:19Z</dcterms:modified>
  <cp:revision>358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