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3AA-29DF-43DA-BE04-F2EEAFFFACB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9F9-2098-4C01-97D9-9F2B76C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EEB-A96E-4E15-92E0-A8F4234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02D-A8D3-4974-AB11-2525BB20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DBC-AEE1-4284-8ED2-E2F34F37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B18-557B-4320-9275-2830D652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4A9-2FBC-4733-97DB-C340756D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CC5-DE3F-43A4-B59D-CC7E39DA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E0F-A9CD-4F47-A258-E90779F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1B7-57F1-43F2-BE62-AAA0184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2AD-A01C-40CC-B50A-7DD7555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74B-EBB8-4ABD-9C42-225C690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A3A-29E8-4CD9-845E-3D39EB87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5995-0EEE-4865-BAFA-5D4E4BDF93F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9040"/>
            <a:ext cx="1719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20816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203480"/>
            <a:ext cx="621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2016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17208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71612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71468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22334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223056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22273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27464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74320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73996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32590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3255840"/>
            <a:ext cx="621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325296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377352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3770280"/>
            <a:ext cx="621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7670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428616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4282920"/>
            <a:ext cx="621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428004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0" y="479916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479592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792680"/>
            <a:ext cx="1706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0" y="53118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5310360"/>
            <a:ext cx="621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53053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0" y="58244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582300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58183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0" y="633744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6337440"/>
            <a:ext cx="6211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63324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9721800" y="6362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8667720" y="63612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417760" y="6356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9721800" y="6748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8667720" y="67485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2417760" y="6743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721800" y="71359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8667720" y="713592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417760" y="7129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9721800" y="75232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8667720" y="75232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417760" y="7518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00:56Z</dcterms:modified>
  <cp:revision>35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