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E5C0-90B4-4D0F-B728-D1CE5CF2E12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964-359C-4044-AD39-1F8A68F4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7DC-6F80-4FFF-93B3-01A0D492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15A-8279-4C3C-B8A6-E4448F80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3DF-8F41-4D36-AF4E-0F99D7DE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0A3-C6A9-4233-AFED-E52A81C0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68D-E3E4-44C6-8644-683DBF43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DE7-2E20-4A48-9596-13E16A61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C4C-CF9E-478C-A002-8A3B3F22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A7E-601E-4F6B-B433-BBDA0895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5F7-B47E-45FE-800B-156C7791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5FB-F2F1-49AB-9D7B-9C3B0129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8BF-C5AB-4BA0-A31C-E5D4B0F0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9463-5823-42FA-9000-165EF991074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84360"/>
            <a:ext cx="1008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84360"/>
            <a:ext cx="31212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6600" y="684360"/>
            <a:ext cx="1719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195560"/>
            <a:ext cx="1008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195560"/>
            <a:ext cx="31212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19556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170820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170820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7082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221940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221940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22194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273204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273204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7320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324324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324324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32432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375588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375588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37558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426708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426708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42670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0" y="478008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478008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47800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0" y="5291280"/>
            <a:ext cx="1008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5291280"/>
            <a:ext cx="31212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529128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0" y="580392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580392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58039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240" y="631656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4840" y="631656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631656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0" y="82170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4840" y="82170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8217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0" y="85993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4840" y="85993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8599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0" y="89726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897264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8972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240" y="93535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4840" y="93535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93535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60" y="9972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8720" y="9972720"/>
            <a:ext cx="312084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73880" y="9972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60" y="103712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98720" y="10371240"/>
            <a:ext cx="312084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2440" y="103712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" y="107553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6920" y="1075536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70640" y="10755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" y="11131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96920" y="111315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70640" y="111315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536920" y="533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536920" y="9190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2536920" y="1306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536920" y="16938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536920" y="2081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2536920" y="2468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2536920" y="2855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2536920" y="324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2535120" y="3629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535120" y="4016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535120" y="4403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535120" y="4791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2535120" y="5178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535120" y="5565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535120" y="5952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535120" y="6340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529000" y="6905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529000" y="7307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530440" y="7672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530440" y="8035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" y="46080"/>
            <a:ext cx="105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46080"/>
            <a:ext cx="311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4608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5120" y="46080"/>
            <a:ext cx="3085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29280" y="684360"/>
            <a:ext cx="312552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26040" y="1195560"/>
            <a:ext cx="31287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170820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26040" y="221940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26040" y="273204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26040" y="324324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26040" y="375588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26040" y="426708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27480" y="4780080"/>
            <a:ext cx="31273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26040" y="5291280"/>
            <a:ext cx="31287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26040" y="580392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26040" y="631656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26040" y="82170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26040" y="85993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26040" y="8972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26040" y="93535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45120" y="9972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43320" y="10371240"/>
            <a:ext cx="3129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1880" y="107553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1880" y="111315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36:57Z</dcterms:modified>
  <cp:revision>378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