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2AE4-9E3E-4C66-8DA6-D21B2BB9D2B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FEB-65EB-44A3-AF40-F7669EA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F0C-1299-451F-B52E-0972D43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7E2-6C24-4299-A683-6C0BC94C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D16-B7BE-4532-B36C-2F23F949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5CD-E868-44BC-BB11-6E37953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3CD-DFEC-49CB-828F-1561C46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5F6-95DE-43AC-879B-80F2093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E39-50CA-4EE4-A785-ABCB3C39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C76-B7D3-4859-9B0D-87D056B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028-CE55-4683-BE04-B1B6DC8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A89-50BA-4227-8984-1B5A2FF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0D3-0DF2-4081-8C5F-958B6D3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3EC9-C73B-43F6-AA6D-E970F645A66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560" y="6858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858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5800"/>
            <a:ext cx="1719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" y="11970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1970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1970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" y="17082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7082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7082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" y="22194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22194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22194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" y="27306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7306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7306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" y="32418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32418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32418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" y="3753000"/>
            <a:ext cx="10285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3753000"/>
            <a:ext cx="27050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75300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4264200"/>
            <a:ext cx="10285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4264200"/>
            <a:ext cx="27050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426420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" y="47750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47750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775040"/>
            <a:ext cx="1706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" y="52862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52862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52862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" y="57974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57974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57974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" y="63104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63104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63104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" y="86961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1000" y="86961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8696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" y="908352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1000" y="90835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9083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" y="94694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94694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9469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" y="98582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1000" y="98582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9858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1043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4520" y="104331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1043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108396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4520" y="108331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10833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111999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1120284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1120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115682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2720" y="1156644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11568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858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1970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7082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22194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7306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32418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375300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426420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47750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52862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57974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63104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3400" y="8696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908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3400" y="9469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3400" y="9858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9520" y="1043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9520" y="108363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11201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115650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1000" y="0"/>
            <a:ext cx="270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8120" y="0"/>
            <a:ext cx="311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8120" y="6858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8120" y="11970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8120" y="17082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8120" y="22194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8120" y="27306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8120" y="32418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3753000"/>
            <a:ext cx="31669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8120" y="4264200"/>
            <a:ext cx="31669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8120" y="47750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8120" y="52862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8120" y="57974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8120" y="63104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8120" y="86961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8120" y="908352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8120" y="94694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8120" y="98582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0" y="104313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35400" y="10829880"/>
            <a:ext cx="3167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3960" y="112014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33960" y="115650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7:15Z</dcterms:modified>
  <cp:revision>3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