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AF8E-DFB5-4220-BE71-E292FDA4375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9E1-AF10-4C5B-B753-E23B56CC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729-F9EB-4D14-A8D5-60D1B24A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592-35B3-45BE-9F84-8B5ABFE5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7F7-AFA3-4AB9-ADBB-FBC206A2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B68-4B52-4697-A41A-543FA95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FB2-6EBA-42CC-84D9-95F44AE0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36F-22DF-48D8-B58B-5BB4E64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1E8-F677-4A0D-A49E-7E6D582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595-FA38-488D-B857-477D78B3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9AE-8931-4F9E-B141-2EB8EB95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969-0691-40AD-B74E-7D06505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7A2-3FF4-43A2-A7F3-09C2E851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E491-0FA4-4CE5-A3FE-2C443785632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40" y="6937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9048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26360" y="689040"/>
            <a:ext cx="1719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40" y="12049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203480"/>
            <a:ext cx="57578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26360" y="12002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40" y="171756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71612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26360" y="17128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0" y="223056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222876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6360" y="22255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40" y="274320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741760"/>
            <a:ext cx="57578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26360" y="27385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40" y="325584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325440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26360" y="325116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40" y="376884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376704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26360" y="37638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40" y="428148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4280040"/>
            <a:ext cx="57578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26360" y="42768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40" y="47941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479268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26360" y="47894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40" y="53071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530532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26360" y="5302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40" y="581976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581832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26360" y="5815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0" y="633240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633240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26360" y="63277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0148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66800" y="101473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00960" y="10142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4600" y="105346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66800" y="10534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00960" y="10530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4600" y="109220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66800" y="10922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00960" y="10915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4600" y="113094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66800" y="11309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00960" y="11304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5520" y="11866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60680" y="118634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20040" y="11863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520" y="12268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60680" y="12263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18240" y="12261960"/>
            <a:ext cx="17211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080" y="12628440"/>
            <a:ext cx="1052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58880" y="12633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16800" y="126334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" y="12996720"/>
            <a:ext cx="1052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58880" y="129967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16800" y="12996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9048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20348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71612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222876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74176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32544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37688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428148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479412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530712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581976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63342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49200" y="1015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9200" y="10537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9200" y="10925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9200" y="11312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5680" y="11863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5680" y="12265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4240" y="12630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4240" y="12993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17:00Z</dcterms:modified>
  <cp:revision>363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