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F56-3247-498C-98E8-BE50F0F199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479-66B7-44E7-BE3F-41CF6C69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BEB-E3E7-4E37-9655-9FE6233B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303-1572-4BDF-99F2-4FA84467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F72-93A0-4F58-B4FC-3BA347D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FFF-F63D-4E75-B9FE-82F8A0E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F8D-BEA4-4E24-919A-05D2BF6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23D-E759-48E5-A9BE-38B047F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DFC-9D8E-46F8-8F3D-6AD42859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80C-BF5A-4F04-9985-0087126E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58A-51DF-4C17-B496-3C2524C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F7F-49B7-4AB6-827D-9F45A6B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3A6-E3EF-465F-8B1C-914EACF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4B9-2562-4807-9FB3-55BAAB62364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843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6600" y="684360"/>
            <a:ext cx="1719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0746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1459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1844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2228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26049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26049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04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2995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29955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2995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33847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33847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84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0" y="3770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37702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702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41562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41562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56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0" y="45338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45338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33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0" y="49165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49165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16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5302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53020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02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0" y="5684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5684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684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6058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6058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058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0" y="64389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64389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38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" y="46080"/>
            <a:ext cx="105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46080"/>
            <a:ext cx="311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4608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5120" y="46080"/>
            <a:ext cx="3085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928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6040" y="26049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26040" y="29955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6040" y="3384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27480" y="3770280"/>
            <a:ext cx="31273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41562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6040" y="45338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26040" y="49165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26040" y="5302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26040" y="5684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6058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26040" y="64389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1320" y="6904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1320" y="14605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1320" y="2239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1320" y="30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1320" y="37814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1320" y="45464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1320" y="5321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1320" y="60847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22880" y="690480"/>
            <a:ext cx="3047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108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2108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2108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108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108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6:20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