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A540-ED5D-4724-A0F1-3D942E447E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EDA-7F32-42D8-A78A-1BA3A0D8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69E-B320-45B0-AECE-2EE8535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B87-C357-4CA6-A0B3-F88E087A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F24-1ACD-4F65-8DAC-0E3D5BD9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C27-764A-4B38-B140-D5C92CC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B5A-1BDE-4EED-92A2-7EC34DB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AB5-B16B-45B5-94C7-93A609D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AD5-78B7-444E-9ED9-8311CB2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72B-48AD-4EC9-8C4C-46D5D19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42D-8246-4402-B85E-74BF793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0EB-FA6A-4CC5-80C9-C82A684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4D0-1274-4F14-A21B-A8AE8DA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2196-2C7F-4DDE-BA65-C2BC7F86DC34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560" y="68580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858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580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" y="107172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0717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" y="14558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4558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5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" y="184140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18414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1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" y="222552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2255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5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" y="26146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26146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146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" y="29973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2997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2997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33814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33814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814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" y="37670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3767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6704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" y="41529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4152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52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" y="45435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45435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43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" y="49388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49388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38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" y="532440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1000" y="53244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24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" y="57117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1000" y="57117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711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" y="60976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60976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0976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" y="64864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1000" y="648648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4864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4520" y="7061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4520" y="7461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783108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2720" y="8194680"/>
            <a:ext cx="270540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85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0717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45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1841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22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26146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29973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3381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37670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41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4543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4938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3400" y="5324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5711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3400" y="60976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3400" y="6486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1000" y="0"/>
            <a:ext cx="270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8120" y="0"/>
            <a:ext cx="311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8120" y="6858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8120" y="107172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8120" y="14558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8120" y="18414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8120" y="222552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8120" y="26146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973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8120" y="33814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8120" y="37670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8120" y="41529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8120" y="45435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8120" y="49388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8120" y="53244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8120" y="57117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8120" y="60976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8120" y="64864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0" y="70596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35400" y="7458120"/>
            <a:ext cx="3167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3960" y="78296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33960" y="81932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04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9720" y="69048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4605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9720" y="146052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09720" y="223992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2320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0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9720" y="300816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2320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781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09720" y="378144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2320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46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454644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2320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21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9720" y="532116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84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09720" y="608472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38440" y="79549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38440" y="872496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38440" y="95043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38440" y="1027440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38440" y="110473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38440" y="1181088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38440" y="1258560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38440" y="133491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440" y="1483848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440" y="1560816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440" y="1638792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1716084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5408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5408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5408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5408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5408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5408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408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408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22880" y="690480"/>
            <a:ext cx="3047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108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2108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2108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2108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2108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2108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108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8:17Z</dcterms:modified>
  <cp:revision>373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