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A4A0-BF1C-466A-91B3-4B4C9D3911A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AFB-CAAA-48E0-818A-B9200247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920-D800-4408-A82F-82E6EA40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A94-0BBE-4092-91DC-2D99FC62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072-1D75-47EC-A7F2-F0657687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922-BDDA-4D1D-B3E6-9161240E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EF8-6FC1-432B-AB43-05BF9FE8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7BB-A719-40C1-A26A-340DE81D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ED3-BFD9-4D17-BC56-7162750C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D1E-E2EE-4781-A586-BAADE2A3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A4C-52A5-4DF4-A895-8B421143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E7D-42D1-45F6-B304-3B09465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231-B729-416E-B82E-3BAD2C9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7915-61A8-4EFA-9D9B-DB906490D26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440" y="69372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1000" y="6904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40" y="107964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1000" y="1076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40" y="146700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000" y="1463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40" y="185256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1000" y="18511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40" y="223992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1000" y="2236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40" y="262728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1000" y="2624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40" y="301320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1000" y="3011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40" y="340056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1000" y="3398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40" y="380052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1000" y="37987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37972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40" y="418788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1000" y="41860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418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40" y="457524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1000" y="45734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45734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40" y="496080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1000" y="49608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495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40" y="534816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1000" y="53467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53420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40" y="573408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1000" y="57340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572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40" y="612144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1000" y="61214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61149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40" y="650880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1000" y="65088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6504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14520" y="70628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14520" y="74628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12720" y="783288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2720" y="819612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1600" y="690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600" y="1076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1600" y="1463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1600" y="1851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2238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1600" y="262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1600" y="3013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1600" y="340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3400" y="3800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3400" y="4187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3400" y="4575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03400" y="4962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03400" y="5349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5737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3400" y="61246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3400" y="65120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904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09720" y="69048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4605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09720" y="14605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09720" y="22399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2320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9720" y="3008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2320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781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09720" y="378144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2320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46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9720" y="454644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2320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321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09720" y="5321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084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09720" y="60847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38440" y="79549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38440" y="872496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8440" y="95043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38440" y="1027440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38440" y="110473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38440" y="1181088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38440" y="1258560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38440" y="13349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440" y="1483848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440" y="15608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440" y="1638792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440" y="1716084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5408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5408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5408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5408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5408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5408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408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5408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0"/>
            <a:ext cx="585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2:46:30Z</dcterms:modified>
  <cp:revision>36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