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2B97-4E3E-484F-8999-805C90C2BB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7DC-2907-4F4D-A836-A3E3EB6D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2BB-E95B-458A-9BE4-9C29FF11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269-DB47-4044-BE7F-F8C73AC7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811-14D8-4721-AB32-A643979B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634-108D-43E5-B751-9724CF57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EE3-3CA7-4B0B-A4D0-86C2BEFF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EC0-1452-4BFC-9EF3-F3955A72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CCF-1F7D-454D-9188-46F1F835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339-66FA-4FB1-A3CA-B4BD8BB9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76A-EA88-44FD-9145-AE8D2B8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516-2A2B-4D69-9993-65FDC88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697-313F-4FBE-8B19-E9B2C89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429-DAF7-45D3-A45A-E1E7227B82F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3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70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132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61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594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323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1056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2640" y="79549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310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2640" y="872640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2640" y="95090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90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76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2640" y="1027764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764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505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110473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238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52640" y="118108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41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967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1258884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700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2640" y="133570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41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06640" y="148384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14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6640" y="156099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06640" y="163926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926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171608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26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26600" y="87282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26600" y="95058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26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26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26600" y="118206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26600" y="12593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26600" y="133668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380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380600" y="15611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80600" y="16389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80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6776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6904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1076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4840" y="1463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18511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4840" y="2236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4840" y="2624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3011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33987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3784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4172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45594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4946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53323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57196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6107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6494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0:47Z</dcterms:modified>
  <cp:revision>35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