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DA5-BBA0-4D5D-ABF7-78FDE8B8C0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EEF-A995-4C6A-96C7-EF5BDCAA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CDF-F75B-4910-881F-94990EB5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C0D-2D42-49A4-A439-592EA5C2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95A-3E37-44FD-A376-1B8DD80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BDB-FBAA-47B6-8FBB-E538A36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42E-2682-4058-816B-11452EF1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FC1-08BD-43C9-95FA-C512106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7E6-4336-49E8-B71F-DFE5BF84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54E-871F-41C1-AB74-EDE3BDF2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A0C-6F64-4375-80A9-AE6A5AD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A8B-5E27-41DA-8EA6-9132DAD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CDA-6264-436A-BE55-D2665C5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588-5FF7-4C4C-B10B-C8E35F83A9B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" y="69048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69048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6904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14605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4080" y="14605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4080" y="22399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" y="3008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3008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" y="3781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781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" y="4546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54080" y="4546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" y="5321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4080" y="5321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03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" y="6084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54080" y="60847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564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420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420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20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20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420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420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84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436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4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59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44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28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17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26179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0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30081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0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97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3397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2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3782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68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1688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59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4840" y="45594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4840" y="4941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27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4840" y="5327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0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4840" y="5710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0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5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4840" y="6095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095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89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6489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4040" y="-30240"/>
            <a:ext cx="171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2604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6179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6040" y="300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26040" y="3397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9280" y="3782880"/>
            <a:ext cx="3101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26040" y="4168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040" y="45594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6040" y="4941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5327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6040" y="5710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6040" y="60958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6489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1:41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