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A46-FDB7-4959-9938-3CE94813747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A2D-AE1D-476B-BDEF-79A8438D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0AA-0B0F-4A73-9933-F4FC317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D37-DE65-4B8F-B782-A78293CD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5F4-F08B-4B88-B686-46CB332F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44F-4E0F-432B-9C38-19CADF3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19E-C3D5-4D63-8ADD-B15C9AE4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EA1-EDB0-4D19-A548-3B0A6188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19E-1C44-4640-9108-6DBAD7A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5B5-582F-498B-8E3E-FCCE292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98B-91E7-4C18-BE7B-8DD0BDA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695-C94F-48DD-A49A-8108431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D10-EB3F-4167-BC01-3B895DE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867-C9EB-40B6-8F15-0A5088121C3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16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0640" y="69048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07360" y="690480"/>
            <a:ext cx="1652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0640" y="14605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08800" y="14605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22399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8800" y="22399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0640" y="3008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08800" y="3008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6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0640" y="3781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8800" y="3781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6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4546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08800" y="4546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6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0640" y="5321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5321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6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0640" y="60847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08800" y="60847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59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92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592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592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14605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22399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008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2920" y="3781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2920" y="4546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2920" y="5321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2920" y="60847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6890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1074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1461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18493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2235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2622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3009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33973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37828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1000" y="4170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1000" y="4557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1000" y="4944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1000" y="53308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1000" y="5718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1000" y="6105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1000" y="649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604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22680" y="685800"/>
            <a:ext cx="28288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22680" y="10717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22680" y="1455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2680" y="1841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22680" y="22255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2680" y="2614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2680" y="30099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22680" y="33940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22680" y="3780000"/>
            <a:ext cx="28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22680" y="41655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22680" y="45561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2680" y="4938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22680" y="5324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22680" y="57117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22680" y="6097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2680" y="64864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41760" y="70596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40320" y="74581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8520" y="78296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38520" y="81932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9:31Z</dcterms:modified>
  <cp:revision>369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