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47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8305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2120"/>
            <a:ext cx="8610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关于淘宝规则的变更，以下说法正确的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淘宝会不定期调整、优化和修改   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从来不会变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两天变一次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每天变一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7347000">
            <a:off x="10342440" y="69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45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610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关于淘宝规则的变更，以下说法正确的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A.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淘宝会不定期调整、优化和修改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从来不会变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两天变一次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每天变一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7347000">
            <a:off x="8970840" y="2355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2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3-07-14T12:18:30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