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476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83052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762120"/>
            <a:ext cx="86108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集市与商城的评价体系有什么区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集市有信用评价和店铺评分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商城只有店铺评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商城有信用评价和店铺评分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集市只有店铺评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集市只有信用评价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商城只有店铺评分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商城只有信用评价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集市只有店铺评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1589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单选题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7347000">
            <a:off x="10342440" y="69840"/>
            <a:ext cx="533520" cy="8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 rot="10710000">
            <a:off x="9622440" y="3105720"/>
            <a:ext cx="68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45" name=""/>
          <p:cNvSpPr/>
          <p:nvPr/>
        </p:nvSpPr>
        <p:spPr>
          <a:xfrm>
            <a:off x="9448920" y="1905120"/>
            <a:ext cx="1143000" cy="5331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 rot="10694400">
            <a:off x="9627120" y="4471920"/>
            <a:ext cx="762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x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7" name=""/>
          <p:cNvSpPr/>
          <p:nvPr/>
        </p:nvSpPr>
        <p:spPr>
          <a:xfrm>
            <a:off x="9524880" y="5791320"/>
            <a:ext cx="13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答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762120"/>
            <a:ext cx="86108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集市与商城的评价体系有什么区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A.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集市有信用评价和店铺评分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,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商城只有店铺评分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商城有信用评价和店铺评分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集市只有店铺评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集市只有信用评价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商城只有店铺评分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商城只有信用评价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集市只有店铺评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1589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单选题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7347000">
            <a:off x="3103200" y="1822320"/>
            <a:ext cx="533520" cy="8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 rot="10710000">
            <a:off x="9622440" y="3105720"/>
            <a:ext cx="68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52" name=""/>
          <p:cNvSpPr/>
          <p:nvPr/>
        </p:nvSpPr>
        <p:spPr>
          <a:xfrm>
            <a:off x="9448920" y="1905120"/>
            <a:ext cx="1143000" cy="5331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10694400">
            <a:off x="9627120" y="4471920"/>
            <a:ext cx="762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x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4" name=""/>
          <p:cNvSpPr/>
          <p:nvPr/>
        </p:nvSpPr>
        <p:spPr>
          <a:xfrm>
            <a:off x="9524880" y="5791320"/>
            <a:ext cx="13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答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12-11T06:42:51Z</dcterms:modified>
  <cp:revision>1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