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476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696080" y="0"/>
            <a:ext cx="83052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762120"/>
            <a:ext cx="89917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在淘宝中，请选择以下表述错误的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抵价券必须使用于支持相应面额抵价券的商品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抵价券不能与其他优惠同时使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笔交易里抵价券可以累加使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笔交易中只能使用一张抵价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21589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单选题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7347000">
            <a:off x="10342440" y="69840"/>
            <a:ext cx="533520" cy="8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 rot="10710000">
            <a:off x="9622440" y="3105720"/>
            <a:ext cx="685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0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45" name=""/>
          <p:cNvSpPr/>
          <p:nvPr/>
        </p:nvSpPr>
        <p:spPr>
          <a:xfrm>
            <a:off x="9448920" y="1905120"/>
            <a:ext cx="1143000" cy="53316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 rot="10694400">
            <a:off x="9627120" y="4471920"/>
            <a:ext cx="762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x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7" name=""/>
          <p:cNvSpPr/>
          <p:nvPr/>
        </p:nvSpPr>
        <p:spPr>
          <a:xfrm>
            <a:off x="9524880" y="5791320"/>
            <a:ext cx="13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答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762120"/>
            <a:ext cx="89917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在淘宝中，请选择以下表述错误的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抵价券必须使用于支持相应面额抵价券的商品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抵价券不能与其他优惠同时使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C.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一笔交易里抵价券可以累加使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笔交易中只能使用一张抵价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1589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单选题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7347000">
            <a:off x="8818200" y="3498840"/>
            <a:ext cx="533520" cy="8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 rot="10710000">
            <a:off x="9622440" y="3105720"/>
            <a:ext cx="685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0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52" name=""/>
          <p:cNvSpPr/>
          <p:nvPr/>
        </p:nvSpPr>
        <p:spPr>
          <a:xfrm>
            <a:off x="9448920" y="1905120"/>
            <a:ext cx="1143000" cy="53316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 rot="10694400">
            <a:off x="9627120" y="4471920"/>
            <a:ext cx="762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x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4" name=""/>
          <p:cNvSpPr/>
          <p:nvPr/>
        </p:nvSpPr>
        <p:spPr>
          <a:xfrm>
            <a:off x="9524880" y="5791320"/>
            <a:ext cx="13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答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12-10T06:48:19Z</dcterms:modified>
  <cp:revision>1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