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799763" cy="15181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971964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0000" y="8150760"/>
            <a:ext cx="971964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00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5206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26440" y="355212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112520" y="355212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0000" y="815076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26440" y="815076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112520" y="8150760"/>
            <a:ext cx="312948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40000" y="3552120"/>
            <a:ext cx="971964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971964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40000" y="605520"/>
            <a:ext cx="9719640" cy="117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400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88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520600" y="815076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0000" y="605520"/>
            <a:ext cx="9719640" cy="25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00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600" y="3552120"/>
            <a:ext cx="47430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0000" y="8150760"/>
            <a:ext cx="971964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760" y="1109520"/>
            <a:ext cx="1080144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500040" y="115920"/>
            <a:ext cx="324000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92.168.1.88/&#25104;&#32489;&#24405;&#20837;.exe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977080" y="204480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92000" y="3917880"/>
            <a:ext cx="756144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一、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安装好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WINDOWS 2000 server 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（需要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IIS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） 和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SQL  server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。（需要设置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SA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密码，混合模式身份验证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说明：安装好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IIS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。在 控制面板</a:t>
            </a:r>
            <a:r>
              <a:rPr b="0" lang="zh-CN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添加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\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删除程序</a:t>
            </a:r>
            <a:r>
              <a:rPr b="0" lang="zh-CN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添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\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删除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组件里面选择安装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IIS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，并且允许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AS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运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48000" y="1984320"/>
            <a:ext cx="52340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7099560" y="1670040"/>
            <a:ext cx="1232280" cy="1074240"/>
            <a:chOff x="7099560" y="1670040"/>
            <a:chExt cx="1232280" cy="1074240"/>
          </a:xfrm>
        </p:grpSpPr>
        <p:sp>
          <p:nvSpPr>
            <p:cNvPr id="44" name=""/>
            <p:cNvSpPr/>
            <p:nvPr/>
          </p:nvSpPr>
          <p:spPr>
            <a:xfrm rot="8615400">
              <a:off x="7800480" y="1756440"/>
              <a:ext cx="440280" cy="451440"/>
            </a:xfrm>
            <a:prstGeom prst="ellipse">
              <a:avLst/>
            </a:prstGeom>
            <a:gradFill rotWithShape="0">
              <a:gsLst>
                <a:gs pos="0">
                  <a:srgbClr val="73d17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8615400">
              <a:off x="7186320" y="2193480"/>
              <a:ext cx="482040" cy="45144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8615400">
              <a:off x="7545960" y="2007360"/>
              <a:ext cx="504360" cy="51696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924360" y="2397240"/>
            <a:ext cx="2762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华文隶书"/>
                <a:ea typeface="华文隶书"/>
              </a:rPr>
              <a:t> </a:t>
            </a:r>
            <a:r>
              <a:rPr b="0" lang="zh-CN" sz="3700" spc="-1" strike="noStrike">
                <a:solidFill>
                  <a:srgbClr val="ff0000"/>
                </a:solidFill>
                <a:latin typeface="华文隶书"/>
                <a:ea typeface="华文隶书"/>
              </a:rPr>
              <a:t>自   动    安   装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2908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9128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5636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200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32000" y="5429160"/>
            <a:ext cx="1152720" cy="1081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15440" y="57895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二、运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07280" y="5861160"/>
            <a:ext cx="174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并且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密码，然后按一键完成ＯＡ系统安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97080" y="6653160"/>
            <a:ext cx="4314600" cy="3943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52360" y="10974240"/>
            <a:ext cx="429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ＯＡ系统就会自动帮你安装到本服务器上，并且弹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首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动安装简单、方便、快捷，建议用户采用自动安装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完成自动安装后看本说明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页导入教师名单说明。部署本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2000" y="3917880"/>
            <a:ext cx="7561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一、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安装好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WINDOWS 2000 server  </a:t>
            </a:r>
            <a:r>
              <a:rPr b="1" lang="zh-CN" sz="1600" spc="-1" strike="noStrike">
                <a:solidFill>
                  <a:srgbClr val="ff0000"/>
                </a:solidFill>
                <a:latin typeface="_x000b__x000c_"/>
              </a:rPr>
              <a:t>或 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WINDOWS 2003 server</a:t>
            </a: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要求：安装好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IIS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。在 控制面板</a:t>
            </a:r>
            <a:r>
              <a:rPr b="0" lang="zh-CN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添加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\</a:t>
            </a:r>
            <a:r>
              <a:rPr b="0" lang="zh-CN" sz="1600" spc="-1" strike="noStrike">
                <a:solidFill>
                  <a:srgbClr val="ff0000"/>
                </a:solidFill>
                <a:latin typeface="_x000b__x000c_"/>
              </a:rPr>
              <a:t>删除程序</a:t>
            </a:r>
            <a:r>
              <a:rPr b="0" lang="zh-CN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添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\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删除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组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16000" y="1984320"/>
            <a:ext cx="56660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7099560" y="1670040"/>
            <a:ext cx="1232280" cy="1074240"/>
            <a:chOff x="7099560" y="1670040"/>
            <a:chExt cx="1232280" cy="1074240"/>
          </a:xfrm>
        </p:grpSpPr>
        <p:sp>
          <p:nvSpPr>
            <p:cNvPr id="64" name=""/>
            <p:cNvSpPr/>
            <p:nvPr/>
          </p:nvSpPr>
          <p:spPr>
            <a:xfrm rot="8615400">
              <a:off x="7800480" y="1756440"/>
              <a:ext cx="440280" cy="451440"/>
            </a:xfrm>
            <a:prstGeom prst="ellipse">
              <a:avLst/>
            </a:prstGeom>
            <a:gradFill rotWithShape="0">
              <a:gsLst>
                <a:gs pos="0">
                  <a:srgbClr val="73d17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8615400">
              <a:off x="7186320" y="2193480"/>
              <a:ext cx="482040" cy="45144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8615400">
              <a:off x="7545960" y="2007360"/>
              <a:ext cx="504360" cy="516960"/>
            </a:xfrm>
            <a:prstGeom prst="ellipse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041360" y="2397240"/>
            <a:ext cx="25275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3700" spc="-1" strike="noStrike">
                <a:solidFill>
                  <a:srgbClr val="ff0000"/>
                </a:solidFill>
                <a:latin typeface="华文隶书"/>
                <a:ea typeface="华文隶书"/>
              </a:rPr>
              <a:t>手   动    安   装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6400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2908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9128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5636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72000" y="2549520"/>
            <a:ext cx="0" cy="360360"/>
          </a:xfrm>
          <a:prstGeom prst="line">
            <a:avLst/>
          </a:prstGeom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944720" y="5068800"/>
            <a:ext cx="6912000" cy="551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664000" y="8537400"/>
            <a:ext cx="7200720" cy="5531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63640" y="168588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二、安装好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L200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L200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库。注意一下三幅图的选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7080" y="2620800"/>
            <a:ext cx="6192720" cy="474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72000" y="6365880"/>
            <a:ext cx="6119640" cy="429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079640" y="9499680"/>
            <a:ext cx="5760720" cy="451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201080" y="11982600"/>
            <a:ext cx="31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选择第二项“混合模式”，在“输入密码”栏输入数据库管理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密码，要记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7558920" y="12113280"/>
            <a:ext cx="214200" cy="14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3640" y="1685880"/>
            <a:ext cx="7561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三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附加数据库上去。打开企业管理器，然后点击数据库右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44720" y="8813880"/>
            <a:ext cx="7632720" cy="501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55640" y="2549520"/>
            <a:ext cx="7561440" cy="532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3640" y="1685880"/>
            <a:ext cx="84247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四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个用户。在企业管理器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库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登陆  右键  新建用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7558920" y="12113280"/>
            <a:ext cx="214200" cy="14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52360" y="2476440"/>
            <a:ext cx="4811760" cy="4897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184720" y="2476440"/>
            <a:ext cx="4678560" cy="5041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008000" y="8166240"/>
            <a:ext cx="5276880" cy="568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753080" y="8166240"/>
            <a:ext cx="5278320" cy="568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36720" y="4205160"/>
            <a:ext cx="5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6360" y="4060800"/>
            <a:ext cx="5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4000" y="10685520"/>
            <a:ext cx="43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96000" y="10615680"/>
            <a:ext cx="50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3640" y="168588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五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设置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信息服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IIS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管理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08000" y="5573880"/>
            <a:ext cx="4537080" cy="435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88000" y="5645160"/>
            <a:ext cx="4495680" cy="4314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36720" y="10326600"/>
            <a:ext cx="4092480" cy="331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008000" y="2333520"/>
            <a:ext cx="7993080" cy="2886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5440" y="2909880"/>
            <a:ext cx="4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一步允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56000" y="6294600"/>
            <a:ext cx="43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二步选择目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72360" y="6581880"/>
            <a:ext cx="43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二步设置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4720" y="109029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第四步更改    主目录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配置—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选项    中的  启动目录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105440" y="1973160"/>
            <a:ext cx="5903640" cy="12169800"/>
          </a:xfrm>
          <a:prstGeom prst="rect">
            <a:avLst/>
          </a:prstGeom>
          <a:gradFill rotWithShape="0">
            <a:gsLst>
              <a:gs pos="0">
                <a:srgbClr val="ffffff">
                  <a:alpha val="73333"/>
                </a:srgbClr>
              </a:gs>
              <a:gs pos="100000">
                <a:srgbClr val="ffffff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3640" y="168588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六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l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件夹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dll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640" y="276552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七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安装网站组件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spjpeg.ex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用于显示自适应图片运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spjpeg.ex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下一步，下一步，直到输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361-38566-422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00360" y="3701880"/>
            <a:ext cx="6697440" cy="1424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79640" y="535788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本组件为第三方组件。没有包含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中，请自行到网上下载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08000" y="6510240"/>
            <a:ext cx="864072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八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改系统设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200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默认设置允许表单上传最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0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先在   控制面板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管理工具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   里停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is admin servi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打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\system32\inetsr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etabase.x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修改为红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pMaxRequestEntityAllowed=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8833883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pBufferingLimit="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8833883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然后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is admin servi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，并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服务管理器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66440" y="9101880"/>
            <a:ext cx="525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备注：服务器请不要安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防火墙（会非常大的影响上传文件速度）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4000" y="1072404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功告成了。输入服务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试试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试用用户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密码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系统管理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密码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8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16360" y="13638240"/>
            <a:ext cx="66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3440" y="144302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微软公司版权所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68360" y="13566600"/>
            <a:ext cx="49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置你学校数据请看下一页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3640" y="1685880"/>
            <a:ext cx="7561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九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导入你学校的教师名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79640" y="48531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打开这个页面，从里面下载并运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36720" y="6910560"/>
            <a:ext cx="38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教师名单已经做了一个版在颖峰学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目录下的  导入数据模板文件夹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要把姓名改为贵校的教师姓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导入成功后，所有老师第一次登录要更改密码，并且不能再用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8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为其密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16360" y="13638240"/>
            <a:ext cx="66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13440" y="144302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微软公司版权所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00720" y="3197160"/>
            <a:ext cx="876240" cy="79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79640" y="5357880"/>
            <a:ext cx="54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系统管理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密码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8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040360" y="5573880"/>
            <a:ext cx="4933800" cy="398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36720" y="9909360"/>
            <a:ext cx="90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此为止。贵校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已经安装配置完毕了。再给老师做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钟中使用演示讲解，您就可以正常启动学校ＯＡ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后慢慢去导入学生名单，更改一些具体配置，就形成了个性化的学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，希望您能满意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297080" y="2333520"/>
            <a:ext cx="2019240" cy="1247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3672000" y="2333520"/>
            <a:ext cx="6459480" cy="1571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905440" y="4421160"/>
            <a:ext cx="1133640" cy="952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41080" y="6005520"/>
            <a:ext cx="0" cy="3240000"/>
          </a:xfrm>
          <a:prstGeom prst="line">
            <a:avLst/>
          </a:prstGeom>
          <a:ln w="3240">
            <a:solidFill>
              <a:srgbClr val="ff99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153800" y="7373880"/>
            <a:ext cx="533160" cy="473040"/>
          </a:xfrm>
          <a:custGeom>
            <a:avLst/>
            <a:gdLst>
              <a:gd name="textAreaLeft" fmla="*/ 137520 w 533160"/>
              <a:gd name="textAreaRight" fmla="*/ 395640 w 533160"/>
              <a:gd name="textAreaTop" fmla="*/ 122040 h 473040"/>
              <a:gd name="textAreaBottom" fmla="*/ 351000 h 4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45" y="13569"/>
                </a:lnTo>
                <a:lnTo>
                  <a:pt x="3163" y="18437"/>
                </a:lnTo>
                <a:lnTo>
                  <a:pt x="7911" y="17605"/>
                </a:lnTo>
                <a:lnTo>
                  <a:pt x="10800" y="21600"/>
                </a:lnTo>
                <a:lnTo>
                  <a:pt x="13569" y="17655"/>
                </a:lnTo>
                <a:lnTo>
                  <a:pt x="18437" y="18437"/>
                </a:lnTo>
                <a:lnTo>
                  <a:pt x="17605" y="13689"/>
                </a:lnTo>
                <a:lnTo>
                  <a:pt x="21600" y="10800"/>
                </a:lnTo>
                <a:lnTo>
                  <a:pt x="17655" y="8031"/>
                </a:lnTo>
                <a:lnTo>
                  <a:pt x="18437" y="3163"/>
                </a:lnTo>
                <a:lnTo>
                  <a:pt x="13689" y="3995"/>
                </a:lnTo>
                <a:lnTo>
                  <a:pt x="10800" y="0"/>
                </a:lnTo>
                <a:lnTo>
                  <a:pt x="8031" y="3945"/>
                </a:lnTo>
                <a:lnTo>
                  <a:pt x="3163" y="3163"/>
                </a:lnTo>
                <a:lnTo>
                  <a:pt x="3995" y="791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黑体"/>
                <a:ea typeface="黑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3640" y="1685880"/>
            <a:ext cx="7561080" cy="26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840" rIns="141840" tIns="70920" bIns="7092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_x000b__x000c_"/>
              </a:rPr>
              <a:t>十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生端的安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装好教师端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生端安装只有设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I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行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建议有固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学校才用学生端，方便学生查询自己资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最好的方式是作为二级域名连接在学校的校网上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16360" y="13638240"/>
            <a:ext cx="6624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13440" y="144302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415880"/>
                <a:tab algn="l" pos="2832120"/>
                <a:tab algn="l" pos="4248000"/>
                <a:tab algn="l" pos="5664240"/>
                <a:tab algn="l" pos="7080120"/>
                <a:tab algn="l" pos="8496360"/>
                <a:tab algn="l" pos="9912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微软公司版权所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8:05:17Z</dcterms:created>
  <dc:creator>zhang</dc:creator>
  <dc:description/>
  <dc:language>en-US</dc:language>
  <cp:lastModifiedBy>lh</cp:lastModifiedBy>
  <dcterms:modified xsi:type="dcterms:W3CDTF">2012-10-08T23:38:40Z</dcterms:modified>
  <cp:revision>2311</cp:revision>
  <dc:subject/>
  <dc:title>PowerPoint 演示文稿</dc:title>
</cp:coreProperties>
</file>