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4D0-281E-4B8A-960A-48D49500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3A1-DE57-44C4-9E6D-F26D6DB5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C1F-E4B6-4F68-9EF6-C2C034DE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44E-42BB-4705-88E0-588510F8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D07-5E12-447F-9AC4-934B623E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C5D-AC3B-4BC4-A2D5-279EB17E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893-BE79-421D-ABEB-F2DE6CC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211-784A-4EB8-BC25-29E6429F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FEB-7607-46B5-AD37-AD67E187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BB7-B77A-4FF1-BC41-8BD16F00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79D-942D-414B-BC00-05145A4F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FE5-1372-46EA-9683-917B8D6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5E6-606C-41F2-82E6-F973342C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学校办公系统使用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 flipV="1" rot="10800000">
            <a:off x="1142640" y="392904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减轻工作量，节省您们的资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214280" y="52149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般老师使用很简单，所见即所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 flipV="1" rot="10800000">
            <a:off x="1116000" y="2781360"/>
            <a:ext cx="74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欢迎您们使用本学校办公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8"/>
          <p:cNvSpPr/>
          <p:nvPr/>
        </p:nvSpPr>
        <p:spPr>
          <a:xfrm>
            <a:off x="533520" y="0"/>
            <a:ext cx="475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四、个人事务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demo.yfidea.com/Help/img/richenganpai.JPG"/>
          <p:cNvPicPr/>
          <p:nvPr/>
        </p:nvPicPr>
        <p:blipFill>
          <a:blip r:embed="rId1"/>
          <a:stretch/>
        </p:blipFill>
        <p:spPr>
          <a:xfrm>
            <a:off x="225360" y="2643120"/>
            <a:ext cx="8847360" cy="4076640"/>
          </a:xfrm>
          <a:prstGeom prst="rect">
            <a:avLst/>
          </a:prstGeom>
          <a:ln w="0">
            <a:noFill/>
          </a:ln>
        </p:spPr>
      </p:pic>
      <p:sp>
        <p:nvSpPr>
          <p:cNvPr id="84" name="矩形 6"/>
          <p:cNvSpPr/>
          <p:nvPr/>
        </p:nvSpPr>
        <p:spPr>
          <a:xfrm>
            <a:off x="428760" y="71424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日程上面的日期数字，就进入管理日程窗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571680" y="1285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新建事务”，新增一个事务，注意提醒时间，本系统在提醒时间 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，和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分别文字声音提醒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9"/>
          <p:cNvSpPr/>
          <p:nvPr/>
        </p:nvSpPr>
        <p:spPr>
          <a:xfrm>
            <a:off x="520560" y="0"/>
            <a:ext cx="64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五、发内部短信</a:t>
            </a:r>
            <a:r>
              <a:rPr b="0" lang="en-US" sz="3800" spc="-1" strike="noStrike">
                <a:solidFill>
                  <a:srgbClr val="cc00cc"/>
                </a:solidFill>
                <a:latin typeface="Arial"/>
              </a:rPr>
              <a:t>\</a:t>
            </a: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邮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http://demo.yfidea.com/Help/img/xinduanxin.JPG"/>
          <p:cNvPicPr/>
          <p:nvPr/>
        </p:nvPicPr>
        <p:blipFill>
          <a:blip r:embed="rId1"/>
          <a:stretch/>
        </p:blipFill>
        <p:spPr>
          <a:xfrm>
            <a:off x="928800" y="5643720"/>
            <a:ext cx="7500960" cy="107136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500040" y="49766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及时查看，让发信人知道你已经查阅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8760" y="857160"/>
          <a:ext cx="8215200" cy="8542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发送邮件：选择要发送的名单。写标题，内容，可以添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附件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23" descr="http://demo.yfidea.com/Help/img/faEmail.JPG"/>
          <p:cNvPicPr/>
          <p:nvPr/>
        </p:nvPicPr>
        <p:blipFill>
          <a:blip r:embed="rId2"/>
          <a:stretch/>
        </p:blipFill>
        <p:spPr>
          <a:xfrm>
            <a:off x="1000080" y="1747800"/>
            <a:ext cx="70009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17680" y="0"/>
            <a:ext cx="691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六、部门文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demo.yfidea.com/Help/img/bumen/bumenwenjianadd.JPG"/>
          <p:cNvPicPr/>
          <p:nvPr/>
        </p:nvPicPr>
        <p:blipFill>
          <a:blip r:embed="rId1"/>
          <a:stretch/>
        </p:blipFill>
        <p:spPr>
          <a:xfrm>
            <a:off x="1619280" y="3789360"/>
            <a:ext cx="5438880" cy="2523960"/>
          </a:xfrm>
          <a:prstGeom prst="rect">
            <a:avLst/>
          </a:prstGeom>
          <a:ln w="0">
            <a:noFill/>
          </a:ln>
        </p:spPr>
      </p:pic>
      <p:sp>
        <p:nvSpPr>
          <p:cNvPr id="93" name="矩形 6"/>
          <p:cNvSpPr/>
          <p:nvPr/>
        </p:nvSpPr>
        <p:spPr>
          <a:xfrm>
            <a:off x="500040" y="9032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设置学校部门，请根据学校需要设置，认真考虑，最好不要经常修改。在系统设置里面看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demo.yfidea.com/Help/img/bumen/shebumen.JPG"/>
          <p:cNvPicPr/>
          <p:nvPr/>
        </p:nvPicPr>
        <p:blipFill>
          <a:blip r:embed="rId2"/>
          <a:stretch/>
        </p:blipFill>
        <p:spPr>
          <a:xfrm>
            <a:off x="928800" y="1928880"/>
            <a:ext cx="1817640" cy="662040"/>
          </a:xfrm>
          <a:prstGeom prst="rect">
            <a:avLst/>
          </a:prstGeom>
          <a:ln w="0">
            <a:noFill/>
          </a:ln>
        </p:spPr>
      </p:pic>
      <p:sp>
        <p:nvSpPr>
          <p:cNvPr id="95" name="矩形 8"/>
          <p:cNvSpPr/>
          <p:nvPr/>
        </p:nvSpPr>
        <p:spPr>
          <a:xfrm>
            <a:off x="2946600" y="2708280"/>
            <a:ext cx="5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好相应内容，就可以上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上传的资料。自己可以删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642960" y="1071720"/>
          <a:ext cx="7572240" cy="1279440"/>
        </p:xfrm>
        <a:graphic>
          <a:graphicData uri="http://schemas.openxmlformats.org/drawingml/2006/table">
            <a:tbl>
              <a:tblPr/>
              <a:tblGrid>
                <a:gridCol w="7572240"/>
              </a:tblGrid>
              <a:tr h="127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系统管理员先要设置好文档任务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【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师文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设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选择当前学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】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教师才能安预先设置好的任务去上传文档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3"/>
          <p:cNvSpPr/>
          <p:nvPr/>
        </p:nvSpPr>
        <p:spPr>
          <a:xfrm>
            <a:off x="468360" y="0"/>
            <a:ext cx="676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七、教师文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C:\Users\Administrator\AppData\Roaming\Tencent\Users\318633188\QQ\WinTemp\RichOle\ZV`8L9YA9VF8HU[YXD~IH1S.png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642960" y="642960"/>
            <a:ext cx="40734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以下，就可以看到自己需要上传的文件，就可以上传。每个人可以上传，删除自己的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demo.yfidea.com/Help/img/jiaoshiwenjsc.JPG"/>
          <p:cNvPicPr/>
          <p:nvPr/>
        </p:nvPicPr>
        <p:blipFill>
          <a:blip r:embed="rId1"/>
          <a:stretch/>
        </p:blipFill>
        <p:spPr>
          <a:xfrm>
            <a:off x="347760" y="3929040"/>
            <a:ext cx="8510400" cy="2571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8499600" y="26020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8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672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539640" y="0"/>
            <a:ext cx="676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八、网上备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571680" y="100008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科组，级别，就可以查看本学期的这个科组的备课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demo.yfidea.com/Help/img/beike.JPG"/>
          <p:cNvPicPr/>
          <p:nvPr/>
        </p:nvPicPr>
        <p:blipFill>
          <a:blip r:embed="rId1"/>
          <a:stretch/>
        </p:blipFill>
        <p:spPr>
          <a:xfrm>
            <a:off x="642960" y="2143080"/>
            <a:ext cx="8215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914480" y="3240"/>
            <a:ext cx="40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九、公物报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857160" y="571500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击报修处理，可以看到自己的报修历史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2487960" y="1285920"/>
            <a:ext cx="6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击我要保修。填写保修具体事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247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8"/>
          <p:cNvGrpSpPr/>
          <p:nvPr/>
        </p:nvGrpSpPr>
        <p:grpSpPr>
          <a:xfrm>
            <a:off x="4939560" y="2070360"/>
            <a:ext cx="2511720" cy="1886760"/>
            <a:chOff x="4939560" y="2070360"/>
            <a:chExt cx="2511720" cy="1886760"/>
          </a:xfrm>
        </p:grpSpPr>
        <p:sp>
          <p:nvSpPr>
            <p:cNvPr id="118" name="AutoShape 6"/>
            <p:cNvSpPr/>
            <p:nvPr/>
          </p:nvSpPr>
          <p:spPr>
            <a:xfrm rot="20589000">
              <a:off x="5079240" y="2365920"/>
              <a:ext cx="2232000" cy="129564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 rot="20589000">
              <a:off x="5408280" y="240984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要详细点，包括地址，保修设备名称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"/>
          <p:cNvSpPr/>
          <p:nvPr/>
        </p:nvSpPr>
        <p:spPr>
          <a:xfrm>
            <a:off x="785880" y="7858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录入用成绩录入插件，图标如下，可以另存到本地运行，用户密码都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的用户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914480" y="5760"/>
            <a:ext cx="4017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十、学生成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900000" y="43657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按班别录入。选择好班别科目等信息。可以随机录入。也可以按学号顺序在中间分数中录入，录入完要按回车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录入有误，可以在中间分数处直接修改，修改完毕按回车就保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8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642960" y="64296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统计，成绩统计实时，可以按多种方式进行统计。（按需要点击左边菜单的统计功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C:\Users\Administrator\AppData\Roaming\Tencent\Users\318633188\QQ\WinTemp\RichOle\]W}~Y6[NK9K}`AIP%F@1IVH.png"/>
          <p:cNvPicPr/>
          <p:nvPr/>
        </p:nvPicPr>
        <p:blipFill>
          <a:blip r:embed="rId1"/>
          <a:stretch/>
        </p:blipFill>
        <p:spPr>
          <a:xfrm>
            <a:off x="250920" y="1700280"/>
            <a:ext cx="86961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"/>
          <p:cNvSpPr/>
          <p:nvPr/>
        </p:nvSpPr>
        <p:spPr>
          <a:xfrm>
            <a:off x="785880" y="785880"/>
            <a:ext cx="8143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德育量化系统分三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级自治（也是操行评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里面可以录入学生平时上课违法纪律，班内加扣分等的项目。是仅仅用了记录学生的操行情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班任和科任记录学生平时操行情况。其扣分仅仅是班内使用。不作为学校的对比。就是过去班内使用的德育积分表，只是用于班任和科任管理考核学生的手段。不作为全校的德育档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237680" y="5760"/>
            <a:ext cx="2207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十一、德育量化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826920" y="3213000"/>
            <a:ext cx="7858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务常规，学校管理项目，班级间加扣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记录班级情况，或风纪值日或学校领导日常检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学校层面的记录。其扣分列入学校班与班之间的评比， 例如文明班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学校风纪员发现某班同学不佩戴校卡，进出校门违纪骑车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971640" y="494172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务评比，学校固定项目的同级各班横向对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早操评比，卫生评比等等。就是一次评完整个年级，然后统一录入数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首先记住学校办公系统</a:t>
            </a:r>
            <a:r>
              <a:rPr b="0" lang="en-US" sz="3800" spc="-1" strike="noStrike">
                <a:solidFill>
                  <a:srgbClr val="cc00cc"/>
                </a:solidFill>
                <a:latin typeface="Arial"/>
              </a:rPr>
              <a:t>IP</a:t>
            </a: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地址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1424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办公系统添加到收藏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14240" y="2001960"/>
            <a:ext cx="7772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办公系统设为首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2143080" y="3929040"/>
            <a:ext cx="4805280" cy="2449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4"/>
          <p:cNvSpPr/>
          <p:nvPr/>
        </p:nvSpPr>
        <p:spPr>
          <a:xfrm>
            <a:off x="829080" y="138744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192.168.XXX.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785880" y="785880"/>
            <a:ext cx="8143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德育量化系统使用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级自治（操行评定），班务常规要注意分开记录。例如某老师上课，发现学生违纪，是记录在班级自治的操行评定当中的。不要记录到版务常规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26920" y="2205000"/>
            <a:ext cx="7858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时有学生帮忙搞卫生，或者做好事，是为该班争分的。就记录到班务常规里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826920" y="3213000"/>
            <a:ext cx="78584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好班级自治和班务常规权限，权限一共分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操行评定记录 ：只能添加和修改自己添加的记录（普通老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操行评定记录 ：可以添加和修改别人添加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学生常规记录： 只能添加和修改自己添加的记录（普通老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学生常规记录： 可以添加和修改别人添加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管理班务评比记录： 可以添加和修改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900000" y="5516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评分期设置：方便学校按月或时段进行文明班评比统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4"/>
          <p:cNvSpPr/>
          <p:nvPr/>
        </p:nvSpPr>
        <p:spPr>
          <a:xfrm>
            <a:off x="5357880" y="5643720"/>
            <a:ext cx="6357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090880" y="2209680"/>
            <a:ext cx="4962240" cy="2438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900000" y="836640"/>
            <a:ext cx="6357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更多更详细使用说明请看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1"/>
          <p:cNvSpPr/>
          <p:nvPr/>
        </p:nvSpPr>
        <p:spPr>
          <a:xfrm>
            <a:off x="2287440" y="7412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用详细功能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244600" y="16956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发新通知，通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244600" y="26956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个人事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244600" y="3195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发内部短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内部邮件。附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244600" y="4195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教师文件，上传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287440" y="46958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上备课，上传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244600" y="36957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部门文件，上传部门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244600" y="2195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校行事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2244600" y="12668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用户分组，密码设置，肤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2316240" y="51958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公物报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2287440" y="57675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生成绩、班务日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一、登陆办公系统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14240" y="4500720"/>
            <a:ext cx="5010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直接浏览器登陆学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次上班至少登陆看看有什么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11280" y="105264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灵登陆，从实用工具里面下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84360" y="400536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记住密码，自动登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1"/>
          <a:stretch/>
        </p:blipFill>
        <p:spPr>
          <a:xfrm>
            <a:off x="5940360" y="692280"/>
            <a:ext cx="2648160" cy="543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:\Users\Administrator\AppData\Roaming\Tencent\Users\318633188\QQ\WinTemp\RichOle\3KBAO@B$JN0Z3OBIY(IIZBU.png"/>
          <p:cNvPicPr/>
          <p:nvPr/>
        </p:nvPicPr>
        <p:blipFill>
          <a:blip r:embed="rId2"/>
          <a:stretch/>
        </p:blipFill>
        <p:spPr>
          <a:xfrm>
            <a:off x="1116000" y="2349360"/>
            <a:ext cx="3183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一次登陆办公系统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71640" y="321156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密码不可以使用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并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以上，不能是纯数字，一定要含有字母。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71640" y="206064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初始密码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8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修改密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042920" y="4437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记住您的密码，忘记密码请联系学校的系统管理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42960" y="571680"/>
            <a:ext cx="80010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户分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户分的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全部人可以使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且出现在发通知、邮件、短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等里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用户分的组自己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出现在发通知里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3019680" y="40006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密码设置：更改自己的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3825000" y="51912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肤色：多种肤色，选择自己喜欢的肤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357200" y="5857920"/>
            <a:ext cx="492948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_Z09G@0YY13WHKGM{VC3H}Y"/>
          <p:cNvPicPr/>
          <p:nvPr/>
        </p:nvPicPr>
        <p:blipFill>
          <a:blip r:embed="rId2"/>
          <a:stretch/>
        </p:blipFill>
        <p:spPr>
          <a:xfrm>
            <a:off x="6012000" y="692280"/>
            <a:ext cx="215244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0" descr="3PKV5J~@QLHVQD()PMDX)UA"/>
          <p:cNvPicPr/>
          <p:nvPr/>
        </p:nvPicPr>
        <p:blipFill>
          <a:blip r:embed="rId1"/>
          <a:stretch/>
        </p:blipFill>
        <p:spPr>
          <a:xfrm>
            <a:off x="468360" y="1052640"/>
            <a:ext cx="8209080" cy="4835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首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8"/>
          <p:cNvGrpSpPr/>
          <p:nvPr/>
        </p:nvGrpSpPr>
        <p:grpSpPr>
          <a:xfrm>
            <a:off x="3840120" y="2826000"/>
            <a:ext cx="2624400" cy="2024640"/>
            <a:chOff x="3840120" y="2826000"/>
            <a:chExt cx="2624400" cy="2024640"/>
          </a:xfrm>
        </p:grpSpPr>
        <p:sp>
          <p:nvSpPr>
            <p:cNvPr id="68" name="AutoShape 6"/>
            <p:cNvSpPr/>
            <p:nvPr/>
          </p:nvSpPr>
          <p:spPr>
            <a:xfrm rot="1292400">
              <a:off x="3999600" y="3190320"/>
              <a:ext cx="2232000" cy="129564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 rot="1292400">
              <a:off x="4520160" y="342360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新通知一定要看，不看也要点一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6360120" y="1821960"/>
            <a:ext cx="2300760" cy="2169360"/>
            <a:chOff x="6360120" y="1821960"/>
            <a:chExt cx="2300760" cy="2169360"/>
          </a:xfrm>
        </p:grpSpPr>
        <p:sp>
          <p:nvSpPr>
            <p:cNvPr id="71" name="AutoShape 10"/>
            <p:cNvSpPr/>
            <p:nvPr/>
          </p:nvSpPr>
          <p:spPr>
            <a:xfrm rot="1960200">
              <a:off x="6592680" y="2206440"/>
              <a:ext cx="1835280" cy="140040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 rot="1960200">
              <a:off x="6859080" y="2475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新短信、邮件也要看、点，让发件人知道你查看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17"/>
          <p:cNvSpPr/>
          <p:nvPr/>
        </p:nvSpPr>
        <p:spPr>
          <a:xfrm rot="19431600">
            <a:off x="8062920" y="4292640"/>
            <a:ext cx="1081080" cy="936720"/>
          </a:xfrm>
          <a:prstGeom prst="wedgeEllipseCallout">
            <a:avLst>
              <a:gd name="adj1" fmla="val -40601"/>
              <a:gd name="adj2" fmla="val 44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8244000" y="433548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重要的文件标星，方便自己处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7"/>
          <p:cNvSpPr/>
          <p:nvPr/>
        </p:nvSpPr>
        <p:spPr>
          <a:xfrm>
            <a:off x="611280" y="189000"/>
            <a:ext cx="7858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cc"/>
                </a:solidFill>
                <a:latin typeface="Arial"/>
              </a:rPr>
              <a:t>二、发新通知，通知管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部门，就是接收通知对象，全部部门为全体人员，可以多选部门（部门设置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分组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发送人可以根据需要更改，例如改“教导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可以编辑字体。建议选用醒目的字体，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附件可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文件，但是注意不要发送过大的文件（系统默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选择发布通知，就会出现以下的发布窗口，然后输入或粘贴发布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4W1ZEF[0ZH4AQSDP[R9TGSA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8"/>
          <p:cNvGrpSpPr/>
          <p:nvPr/>
        </p:nvGrpSpPr>
        <p:grpSpPr>
          <a:xfrm>
            <a:off x="3839400" y="2825280"/>
            <a:ext cx="2622240" cy="2024280"/>
            <a:chOff x="3839400" y="2825280"/>
            <a:chExt cx="2622240" cy="2024280"/>
          </a:xfrm>
        </p:grpSpPr>
        <p:sp>
          <p:nvSpPr>
            <p:cNvPr id="78" name="AutoShape 6"/>
            <p:cNvSpPr/>
            <p:nvPr/>
          </p:nvSpPr>
          <p:spPr>
            <a:xfrm rot="1292400">
              <a:off x="3998880" y="3189600"/>
              <a:ext cx="2232000" cy="129528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 rot="1292400">
              <a:off x="4416120" y="340128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如果太长的话，建议在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编辑好复制到这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8"/>
          <p:cNvSpPr/>
          <p:nvPr/>
        </p:nvSpPr>
        <p:spPr>
          <a:xfrm>
            <a:off x="571680" y="0"/>
            <a:ext cx="7786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三、学校行事历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周开始时把学校的本周的行事历详细添加进去，方便全校教师领导清楚自己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有设置了权限的人员有权添加学校行事历，全校老师查看，星号提示当天工作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837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44:45Z</dcterms:created>
  <dc:creator>zx</dc:creator>
  <dc:description/>
  <dc:language>en-US</dc:language>
  <cp:lastModifiedBy>Windows 用户</cp:lastModifiedBy>
  <dcterms:modified xsi:type="dcterms:W3CDTF">2016-05-04T07:45:47Z</dcterms:modified>
  <cp:revision>125</cp:revision>
  <dc:subject/>
  <dc:title>学校办公系统使用说明</dc:title>
</cp:coreProperties>
</file>