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E68-04F8-4EA9-946B-E0999A93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CC5-50CA-4DB3-B1DF-FB21E74F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695-7300-4418-AD46-F0110D0A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02D-B08D-4E66-AC4E-8897ECF7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0F7-ED97-44C8-8A1E-02A95082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D0C-83EB-4E8C-A240-11EA9AB8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03F-7E19-46ED-9160-7B422CEB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0C4-784C-424C-8AF9-07ACC420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2C2-EF11-43CB-9D11-E5D80FA3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804-47D8-429C-A6D7-B77F143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F0D-118B-4D9A-832A-8EF9B35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526-58E2-4800-A701-2830066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1DAC-449A-4548-ABA8-B9765EF38B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ta.movie.xunlei.com/movie/58869" TargetMode="External"/><Relationship Id="rId2" Type="http://schemas.openxmlformats.org/officeDocument/2006/relationships/hyperlink" Target="http://data.movie.xunlei.com/movie/58913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>
                  <a:alpha val="38039"/>
                </a:srgbClr>
              </a:gs>
              <a:gs pos="100000">
                <a:srgbClr val="00cc00">
                  <a:alpha val="9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201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年热门国语电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4920" y="620640"/>
          <a:ext cx="9039240" cy="6226200"/>
        </p:xfrm>
        <a:graphic>
          <a:graphicData uri="http://schemas.openxmlformats.org/drawingml/2006/table">
            <a:tbl>
              <a:tblPr/>
              <a:tblGrid>
                <a:gridCol w="2233440"/>
                <a:gridCol w="1008360"/>
                <a:gridCol w="1800000"/>
                <a:gridCol w="935280"/>
                <a:gridCol w="2232000"/>
                <a:gridCol w="83016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电影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编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电影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编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电影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编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央视春节联欢晚会完整高清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新少林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非诚勿扰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熊出没注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绑架冰激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新康定情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让子弹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杰伦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超时代演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午夜心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大笑江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氏孤儿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届广州亚运会开幕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武功山别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刀客外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密室之不可告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路有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玩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鱼狗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功夫咏春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是植物人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猫狗大战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V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精武风云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还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初恋这件小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剑雨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玩酷青春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的野蛮女友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恶胎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得闲炒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的钱我做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山楂树之恋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迷城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大美人儿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荒村公寓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9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另类村姑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失忆危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爱出色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举起手来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追击阿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照重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敢死队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镖行天下前传四百里加急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魔侠传之唐吉可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猎艳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出水芙蓉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9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卑鄙的我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嘻游记武林笑传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无人驾驶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9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纺织姑娘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0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b2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 rot="202200">
            <a:off x="179280" y="0"/>
            <a:ext cx="21970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更多新电影在下载系统</a:t>
            </a: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 rot="202200">
            <a:off x="6300720" y="0"/>
            <a:ext cx="21970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更多新电影在下载系统</a:t>
            </a: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4:08:29Z</dcterms:created>
  <dc:creator>雨林木风</dc:creator>
  <dc:description/>
  <dc:language>en-US</dc:language>
  <cp:lastModifiedBy>雨林木风</cp:lastModifiedBy>
  <dcterms:modified xsi:type="dcterms:W3CDTF">2011-02-08T22:30:57Z</dcterms:modified>
  <cp:revision>16</cp:revision>
  <dc:subject/>
  <dc:title>幻灯片 1</dc:title>
</cp:coreProperties>
</file>