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FE0-5C2A-4C9A-ABD5-34ED6BF5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D81-AF1D-45EA-9B2B-E56DCA0D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B71-0F1B-4EC9-8B64-3F174C3B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ABE-1EE3-4D21-AB09-0731AA65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7B9-8E7C-4915-B571-C22C1EAE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B0A-8730-4E06-BAC1-6CC376B6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2677-C42C-43A1-BA00-7BDDF31B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908-D193-46F4-B869-CA2B9E86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5CC-D158-4E31-B00A-E036793D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50B-523C-4C9E-A57B-D014FA6A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2E5-5A2B-40D5-8895-D64B049A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682-EF72-4A36-948C-817DF57A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B118-E63B-4042-8AF4-E227D163D7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>
                  <a:alpha val="70196"/>
                </a:srgbClr>
              </a:gs>
              <a:gs pos="100000">
                <a:srgbClr val="ff0066">
                  <a:alpha val="14117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201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最新欧美大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4920" y="620640"/>
          <a:ext cx="9109080" cy="6193080"/>
        </p:xfrm>
        <a:graphic>
          <a:graphicData uri="http://schemas.openxmlformats.org/drawingml/2006/table">
            <a:tbl>
              <a:tblPr/>
              <a:tblGrid>
                <a:gridCol w="2233440"/>
                <a:gridCol w="1033560"/>
                <a:gridCol w="1814760"/>
                <a:gridCol w="941400"/>
                <a:gridCol w="2104920"/>
                <a:gridCol w="98100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电影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编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电影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编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电影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编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洛杉矶之战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灵异医院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义兄弟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机械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跳跃大搜查线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警界双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2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爱的色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关键第四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六岁的武士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哭泣的狼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黑天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电子世界争霸战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再生门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贱女孩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哈利波特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死亡圣器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致命伴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僵尸新战士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红色警戒心之战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宇宙大爆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宝莱坞机器人之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本食人鲨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时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四张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鬼玩人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魔界英豪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纳尼亚传奇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凯斯宾王子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流星的启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怒剑狂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新猛鬼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惊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失落的未来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兽杂交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6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劫匪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化危机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来生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山崩地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6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狐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巨乳娘大战僵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英雄少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7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无籍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鬼镜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诸神之战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7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最后一次驱魔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鬼入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新铁血战士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停电夜杀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细细的红线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钢铁侠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5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震天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杀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电锯惊魂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机器人艺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6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黑色闪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地下拳击手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_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毁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5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蛇机四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5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 txBox="1"/>
          <p:nvPr/>
        </p:nvSpPr>
        <p:spPr>
          <a:xfrm>
            <a:off x="5796000" y="5805360"/>
            <a:ext cx="25239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更多新片在下载系统</a:t>
            </a: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....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58920" y="5589720"/>
            <a:ext cx="252396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更多新片在下载系统</a:t>
            </a: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....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0"/>
            <a:ext cx="25239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更多新片在下载系统</a:t>
            </a: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....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300720" y="0"/>
            <a:ext cx="25243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更多新片在下载系统</a:t>
            </a: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....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04:08:29Z</dcterms:created>
  <dc:creator>雨林木风</dc:creator>
  <dc:description/>
  <dc:language>en-US</dc:language>
  <cp:lastModifiedBy>雨林木风</cp:lastModifiedBy>
  <dcterms:modified xsi:type="dcterms:W3CDTF">2011-02-08T22:00:09Z</dcterms:modified>
  <cp:revision>14</cp:revision>
  <dc:subject/>
  <dc:title>幻灯片 1</dc:title>
</cp:coreProperties>
</file>