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DA0-52A4-43D4-8313-924222FE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985-2398-42C4-903F-78BD44A7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489-F873-4D0F-9A91-0DEFA7A3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1E0-FED7-4BA3-8C84-BFBA071B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323-6EB1-4D02-A626-7E35673C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286-9481-42BB-9D7A-34948797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7FE-304F-45C7-A781-9135206E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8F9-4157-427F-896F-F09D8D1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D34-4DF9-4159-8C5D-79149571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A5C-0670-4447-B68F-C3BFB475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872-00F8-4536-8FFE-2E229FC3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F94-D63C-4277-A03A-C60F57FF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55DE-646D-4C40-9EB9-813ED498D7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896472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用版安装说明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4464000" cy="133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9079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首先解压试用版：安装下如下图这个微软件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852640"/>
            <a:ext cx="56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：装完上面请打开这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里面双击打开软件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492360" y="2708280"/>
            <a:ext cx="259236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92360" y="3716280"/>
            <a:ext cx="2664000" cy="1081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4869000"/>
            <a:ext cx="8497800" cy="9169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试用版下载系统内所有的数据你可以查看，和搜索，和生成打印目录等功能，但不能下载，因为没数据，如想使用里面的数据请购买正式版本。此试用版数据更新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。你可以对照下你自已的数据，是否分片段，是否你的容量太小。为什么都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V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清楚，因为他容量大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G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也是一样的道理，如果压缩容量太小的绝对不清楚。如想下载试用，请另行上传你电脑上面的资源来试用。至于如何上传请看使用演示录像。或到我的相关网站下载更多演示查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23:47Z</dcterms:created>
  <dc:creator>雨林木风</dc:creator>
  <dc:description/>
  <dc:language>en-US</dc:language>
  <cp:lastModifiedBy>雨林木风</cp:lastModifiedBy>
  <dcterms:modified xsi:type="dcterms:W3CDTF">2010-08-05T06:04:47Z</dcterms:modified>
  <cp:revision>3</cp:revision>
  <dc:subject/>
  <dc:title>幻灯片 1</dc:title>
</cp:coreProperties>
</file>