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5867280" y="1522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6248520" y="1666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295d8c"/>
                </a:solidFill>
                <a:latin typeface="Arial Black"/>
                <a:ea typeface="Gulim"/>
              </a:rPr>
              <a:t>PhonSe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峰信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56.com/u80/v_NTg1OTgxMjU.html" TargetMode="External"/><Relationship Id="rId2" Type="http://schemas.openxmlformats.org/officeDocument/2006/relationships/hyperlink" Target="http://www.eachec.com/Upload/ysb.zip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21000"/>
            <a:ext cx="9142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峰信 电话管理系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在电话销售中的运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445000"/>
            <a:ext cx="9144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上海艾家电子商务有限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r.png"/>
          <p:cNvPicPr/>
          <p:nvPr/>
        </p:nvPicPr>
        <p:blipFill>
          <a:blip r:embed="rId1"/>
          <a:stretch/>
        </p:blipFill>
        <p:spPr>
          <a:xfrm>
            <a:off x="3419640" y="24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2214720"/>
            <a:ext cx="400068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功能描述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统计分析可以查询任意时间段内的通话次数，通话时长，平均通话时长等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使用效果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可以很方便的从通话量上对坐席进行绩效考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28400" y="857160"/>
            <a:ext cx="82278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通话统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D:\phonsen\网站内容\软件界面截图\通话记录统计.JPG"/>
          <p:cNvPicPr/>
          <p:nvPr/>
        </p:nvPicPr>
        <p:blipFill>
          <a:blip r:embed="rId1"/>
          <a:stretch/>
        </p:blipFill>
        <p:spPr>
          <a:xfrm>
            <a:off x="4038480" y="2214720"/>
            <a:ext cx="510552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42560" y="1643040"/>
            <a:ext cx="900108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功能描述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可以查看坐席的实时通话情况，包括有无通话，通话号码，时长等信息，还可以实时监听通话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使用效果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可以对坐席进行有效监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28400" y="857160"/>
            <a:ext cx="82278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: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通话监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4" descr="监听.JPG"/>
          <p:cNvPicPr/>
          <p:nvPr/>
        </p:nvPicPr>
        <p:blipFill>
          <a:blip r:embed="rId1"/>
          <a:stretch/>
        </p:blipFill>
        <p:spPr>
          <a:xfrm>
            <a:off x="1428840" y="2857680"/>
            <a:ext cx="636264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2920" y="1856880"/>
            <a:ext cx="45720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功能描述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可以对联系人进行回访提醒，到期提醒坐席对客户进行回访。还可以作为事务提醒的功能使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使用效果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不会因为工作忙碌而忘记任何一个重要的约会和回访，提高了工作效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28400" y="857160"/>
            <a:ext cx="82278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: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回访提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4" descr="回访.jpg"/>
          <p:cNvPicPr/>
          <p:nvPr/>
        </p:nvPicPr>
        <p:blipFill>
          <a:blip r:embed="rId1"/>
          <a:stretch/>
        </p:blipFill>
        <p:spPr>
          <a:xfrm>
            <a:off x="4786200" y="1714680"/>
            <a:ext cx="36766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来去电弹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214200" y="1785960"/>
            <a:ext cx="3357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功能描述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客户来电，直接在电脑屏幕弹出客户信息，一目了然，不需要再去电脑查找。坐席去电，也能弹出同样的界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使用效果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客户来电就能叫出客户姓名，客户尊贵感油然而生，大大提高了服务质量。而且坐席一眼就能看出保单号，到期日期等信息，节约了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里查找的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需要数据先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4" descr="来电弹屏.jpg"/>
          <p:cNvPicPr/>
          <p:nvPr/>
        </p:nvPicPr>
        <p:blipFill>
          <a:blip r:embed="rId1"/>
          <a:stretch/>
        </p:blipFill>
        <p:spPr>
          <a:xfrm>
            <a:off x="3643200" y="1714680"/>
            <a:ext cx="5295960" cy="40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1308240"/>
            <a:ext cx="8382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运用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7: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电话录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800748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座席通话自动录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录音保存在电脑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永不丢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独创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16: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压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,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小时录音仅占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录音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自动包含通话坐席号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通话号码和通话时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28"/>
          <p:cNvSpPr/>
          <p:nvPr/>
        </p:nvSpPr>
        <p:spPr>
          <a:xfrm>
            <a:off x="7281720" y="6738840"/>
            <a:ext cx="641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3" descr="C:\Documents and Settings\Owner\桌面\ds.jpg"/>
          <p:cNvPicPr/>
          <p:nvPr/>
        </p:nvPicPr>
        <p:blipFill>
          <a:blip r:embed="rId1"/>
          <a:stretch/>
        </p:blipFill>
        <p:spPr>
          <a:xfrm>
            <a:off x="500040" y="2857680"/>
            <a:ext cx="8143920" cy="3886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</a:rPr>
              <a:t>运用</a:t>
            </a:r>
            <a:r>
              <a:rPr b="0" lang="en-US" sz="3800" spc="-1" strike="noStrike">
                <a:solidFill>
                  <a:srgbClr val="000000"/>
                </a:solidFill>
                <a:latin typeface="宋体"/>
              </a:rPr>
              <a:t>8:</a:t>
            </a:r>
            <a:r>
              <a:rPr b="0" lang="zh-CN" sz="3800" spc="-1" strike="noStrike">
                <a:solidFill>
                  <a:srgbClr val="000000"/>
                </a:solidFill>
                <a:latin typeface="宋体"/>
              </a:rPr>
              <a:t>客户管理</a:t>
            </a:r>
            <a:r>
              <a:rPr b="0" lang="en-US" sz="3800" spc="-1" strike="noStrike">
                <a:solidFill>
                  <a:srgbClr val="000000"/>
                </a:solidFill>
                <a:latin typeface="宋体"/>
              </a:rPr>
              <a:t>(CRM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214200" y="164304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方便的对客户进行管理，哪些是已经续保客户，哪些是有意向续保客户，哪些是退保客户，可以很方便的区分出来，并进行统计分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1642680"/>
            <a:ext cx="400068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功能描述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在管理员导入客户资料后，可以将资料下发到坐席进行跟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使用效果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避免同一客户被不同坐席跟进，还能查看同一坐席下有多少客户在跟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28400" y="857160"/>
            <a:ext cx="82278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分配客户到坐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4" descr="客户名单分配.jpg"/>
          <p:cNvPicPr/>
          <p:nvPr/>
        </p:nvPicPr>
        <p:blipFill>
          <a:blip r:embed="rId1"/>
          <a:stretch/>
        </p:blipFill>
        <p:spPr>
          <a:xfrm>
            <a:off x="4143240" y="1500120"/>
            <a:ext cx="4786560" cy="50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28760" y="2214720"/>
            <a:ext cx="400032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功能描述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能快速查询最近有</a:t>
            </a:r>
            <a:r>
              <a:rPr b="0" lang="en-US" sz="2400" spc="-1" strike="noStrike">
                <a:solidFill>
                  <a:srgbClr val="555555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没有跟进的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使用效果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避免长时间没有跟进客户，造成的客户流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28400" y="857160"/>
            <a:ext cx="82278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快捷查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5" descr="更新时间.jpg"/>
          <p:cNvPicPr/>
          <p:nvPr/>
        </p:nvPicPr>
        <p:blipFill>
          <a:blip r:embed="rId1"/>
          <a:stretch/>
        </p:blipFill>
        <p:spPr>
          <a:xfrm>
            <a:off x="5143680" y="2286000"/>
            <a:ext cx="186660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1642680"/>
            <a:ext cx="400068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功能描述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班长坐席可以对坐席群发公告，代替传统的口头通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使用效果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使发送通知省时省力，并且有据可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28400" y="857160"/>
            <a:ext cx="82278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发布公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4" descr="公告通知.jpg"/>
          <p:cNvPicPr/>
          <p:nvPr/>
        </p:nvPicPr>
        <p:blipFill>
          <a:blip r:embed="rId1"/>
          <a:stretch/>
        </p:blipFill>
        <p:spPr>
          <a:xfrm>
            <a:off x="4286160" y="1714680"/>
            <a:ext cx="446724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360" y="1642680"/>
            <a:ext cx="400068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功能描述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客户端和客户端之间，可以直接文字交流，传送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使用效果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方便办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28400" y="857160"/>
            <a:ext cx="82278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内网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4" descr="内网IM.jpg"/>
          <p:cNvPicPr/>
          <p:nvPr/>
        </p:nvPicPr>
        <p:blipFill>
          <a:blip r:embed="rId1"/>
          <a:stretch/>
        </p:blipFill>
        <p:spPr>
          <a:xfrm>
            <a:off x="4429080" y="1857240"/>
            <a:ext cx="394344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产品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612720" y="1700280"/>
            <a:ext cx="81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峰信  电话管理系统是一款创新型的产品，将办公最常用的电话和电脑结合起来，组成一个简单的呼叫中心。可以实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电话呼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呼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弹屏、电话录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通话报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客户关系管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业务记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短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日程提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等高端系统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4" descr="R.png"/>
          <p:cNvPicPr/>
          <p:nvPr/>
        </p:nvPicPr>
        <p:blipFill>
          <a:blip r:embed="rId1"/>
          <a:stretch/>
        </p:blipFill>
        <p:spPr>
          <a:xfrm>
            <a:off x="1285920" y="171468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gg.gif"/>
          <p:cNvPicPr/>
          <p:nvPr/>
        </p:nvPicPr>
        <p:blipFill>
          <a:blip r:embed="rId2"/>
          <a:stretch/>
        </p:blipFill>
        <p:spPr>
          <a:xfrm>
            <a:off x="357120" y="2643120"/>
            <a:ext cx="857268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520" y="1676160"/>
            <a:ext cx="80074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1360" indent="-27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坐席权限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坐席间弹屏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坐席客户资料共享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坐席电话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座席管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C:\Documents and Settings\Owner\桌面\坐席权限控制.jpg"/>
          <p:cNvPicPr/>
          <p:nvPr/>
        </p:nvPicPr>
        <p:blipFill>
          <a:blip r:embed="rId1"/>
          <a:stretch/>
        </p:blipFill>
        <p:spPr>
          <a:xfrm>
            <a:off x="4952880" y="1752480"/>
            <a:ext cx="270540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其他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965240" y="2093760"/>
            <a:ext cx="435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838080" y="1905120"/>
            <a:ext cx="251460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短信收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客户共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批量拨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日提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214880" y="1857240"/>
            <a:ext cx="40384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软件拨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网页划词拨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网页划词添加客户资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话过程中放录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4114800" y="6186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注：不同版本产品，功能会有所不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838080" y="1295280"/>
            <a:ext cx="73915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如果您想更详细了解峰信电话管理系统，您可以观看我们的演示视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56.com/u80/v_NTg1OTgxMjU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还可以下载我们的演示软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achec.com/Upload/ysb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990720" y="3733920"/>
            <a:ext cx="70866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海艾家电子商务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021-331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4008169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phonse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邮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@phonse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:4352679   43528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123920" y="1295280"/>
            <a:ext cx="6877080" cy="46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14200" y="1500120"/>
          <a:ext cx="8786880" cy="3948120"/>
        </p:xfrm>
        <a:graphic>
          <a:graphicData uri="http://schemas.openxmlformats.org/drawingml/2006/table">
            <a:tbl>
              <a:tblPr/>
              <a:tblGrid>
                <a:gridCol w="1751040"/>
                <a:gridCol w="3678480"/>
                <a:gridCol w="3357360"/>
              </a:tblGrid>
              <a:tr h="39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比较内容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峰信电话管理系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普通录音设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4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安装方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简单，不需要专用服务器，普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即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简单，不需要专用服务器，普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即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438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电话录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提供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压缩，占用空间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，占用空间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通话记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远程查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局域网内任何一台电脑都可以查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支持或只支持一人查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数据库容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QL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专业数据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无数据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电脑拨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可以，大大提高工作效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可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联系人管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可以对联系人很方便的管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可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数据共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可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可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数据的到导入导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可以，还可以设置权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可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时监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可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可以或只能在安装硬件电脑上完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137"/>
          <p:cNvSpPr/>
          <p:nvPr/>
        </p:nvSpPr>
        <p:spPr>
          <a:xfrm>
            <a:off x="1714680" y="857160"/>
            <a:ext cx="6143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Arial"/>
              </a:rPr>
              <a:t>峰信电话管理系统与普通录音设备的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37"/>
          <p:cNvSpPr/>
          <p:nvPr/>
        </p:nvSpPr>
        <p:spPr>
          <a:xfrm>
            <a:off x="1428840" y="1000080"/>
            <a:ext cx="7162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Arial"/>
              </a:rPr>
              <a:t>峰信电话管理系统与普通录音设备的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4200" y="1909800"/>
          <a:ext cx="8786880" cy="2482920"/>
        </p:xfrm>
        <a:graphic>
          <a:graphicData uri="http://schemas.openxmlformats.org/drawingml/2006/table">
            <a:tbl>
              <a:tblPr/>
              <a:tblGrid>
                <a:gridCol w="1751040"/>
                <a:gridCol w="3678480"/>
                <a:gridCol w="335736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比较内容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峰信电话管理系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普通录音设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79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话务统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，可以很清楚的看到坐席每天的话务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57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跟踪进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业务记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回访提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网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短信功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上弧形箭头 3"/>
          <p:cNvSpPr/>
          <p:nvPr/>
        </p:nvSpPr>
        <p:spPr>
          <a:xfrm>
            <a:off x="919080" y="1353960"/>
            <a:ext cx="1862280" cy="714600"/>
          </a:xfrm>
          <a:custGeom>
            <a:avLst/>
            <a:gdLst>
              <a:gd name="textAreaLeft" fmla="*/ 398160 w 1862280"/>
              <a:gd name="textAreaRight" fmla="*/ 1374480 w 186228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3" hR="21600" stAng="10800000" swAng="5400000"/>
                <a:lnTo>
                  <a:pt x="11319" y="0"/>
                </a:lnTo>
                <a:arcTo wR="9243" hR="21600" stAng="-5400000" swAng="3533546"/>
                <a:lnTo>
                  <a:pt x="21307" y="16200"/>
                </a:lnTo>
                <a:lnTo>
                  <a:pt x="19523" y="21600"/>
                </a:lnTo>
                <a:lnTo>
                  <a:pt x="17153" y="16200"/>
                </a:lnTo>
                <a:lnTo>
                  <a:pt x="18192" y="16200"/>
                </a:lnTo>
                <a:arcTo wR="9243" hR="21600" stAng="-1866454" swAng="-3367421"/>
                <a:lnTo>
                  <a:pt x="10281" y="137"/>
                </a:lnTo>
                <a:arcTo wR="9243" hR="21600" stAng="-5566125" swAng="-5233875"/>
                <a:close/>
              </a:path>
              <a:path fill="darkenLess" w="21600" h="21600">
                <a:moveTo>
                  <a:pt x="0" y="21600"/>
                </a:moveTo>
                <a:arcTo wR="9243" hR="21600" stAng="10800000" swAng="5400000"/>
                <a:lnTo>
                  <a:pt x="9243" y="0"/>
                </a:lnTo>
                <a:arcTo wR="9243" hR="21600" stAng="-5400000" swAng="166125"/>
                <a:lnTo>
                  <a:pt x="10281" y="137"/>
                </a:lnTo>
                <a:arcTo wR="9243" hR="21600" stAng="-5566125" swAng="-523387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上弧形箭头 4"/>
          <p:cNvSpPr/>
          <p:nvPr/>
        </p:nvSpPr>
        <p:spPr>
          <a:xfrm>
            <a:off x="2781360" y="1353960"/>
            <a:ext cx="1861920" cy="714600"/>
          </a:xfrm>
          <a:custGeom>
            <a:avLst/>
            <a:gdLst>
              <a:gd name="textAreaLeft" fmla="*/ 398160 w 1861920"/>
              <a:gd name="textAreaRight" fmla="*/ 1374120 w 186192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3" hR="21600" stAng="10800000" swAng="5400000"/>
                <a:lnTo>
                  <a:pt x="11319" y="0"/>
                </a:lnTo>
                <a:arcTo wR="9243" hR="21600" stAng="-5400000" swAng="3533546"/>
                <a:lnTo>
                  <a:pt x="21307" y="16200"/>
                </a:lnTo>
                <a:lnTo>
                  <a:pt x="19523" y="21600"/>
                </a:lnTo>
                <a:lnTo>
                  <a:pt x="17153" y="16200"/>
                </a:lnTo>
                <a:lnTo>
                  <a:pt x="18192" y="16200"/>
                </a:lnTo>
                <a:arcTo wR="9243" hR="21600" stAng="-1866454" swAng="-3367421"/>
                <a:lnTo>
                  <a:pt x="10281" y="137"/>
                </a:lnTo>
                <a:arcTo wR="9243" hR="21600" stAng="-5566125" swAng="-5233875"/>
                <a:close/>
              </a:path>
              <a:path fill="darkenLess" w="21600" h="21600">
                <a:moveTo>
                  <a:pt x="0" y="21600"/>
                </a:moveTo>
                <a:arcTo wR="9243" hR="21600" stAng="10800000" swAng="5400000"/>
                <a:lnTo>
                  <a:pt x="9243" y="0"/>
                </a:lnTo>
                <a:arcTo wR="9243" hR="21600" stAng="-5400000" swAng="166125"/>
                <a:lnTo>
                  <a:pt x="10281" y="137"/>
                </a:lnTo>
                <a:arcTo wR="9243" hR="21600" stAng="-5566125" swAng="-523387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上弧形箭头 5"/>
          <p:cNvSpPr/>
          <p:nvPr/>
        </p:nvSpPr>
        <p:spPr>
          <a:xfrm>
            <a:off x="4643280" y="1353960"/>
            <a:ext cx="1862280" cy="714600"/>
          </a:xfrm>
          <a:custGeom>
            <a:avLst/>
            <a:gdLst>
              <a:gd name="textAreaLeft" fmla="*/ 398160 w 1862280"/>
              <a:gd name="textAreaRight" fmla="*/ 1374480 w 186228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3" hR="21600" stAng="10800000" swAng="5400000"/>
                <a:lnTo>
                  <a:pt x="11319" y="0"/>
                </a:lnTo>
                <a:arcTo wR="9243" hR="21600" stAng="-5400000" swAng="3533546"/>
                <a:lnTo>
                  <a:pt x="21307" y="16200"/>
                </a:lnTo>
                <a:lnTo>
                  <a:pt x="19523" y="21600"/>
                </a:lnTo>
                <a:lnTo>
                  <a:pt x="17153" y="16200"/>
                </a:lnTo>
                <a:lnTo>
                  <a:pt x="18192" y="16200"/>
                </a:lnTo>
                <a:arcTo wR="9243" hR="21600" stAng="-1866454" swAng="-3367421"/>
                <a:lnTo>
                  <a:pt x="10281" y="137"/>
                </a:lnTo>
                <a:arcTo wR="9243" hR="21600" stAng="-5566125" swAng="-5233875"/>
                <a:close/>
              </a:path>
              <a:path fill="darkenLess" w="21600" h="21600">
                <a:moveTo>
                  <a:pt x="0" y="21600"/>
                </a:moveTo>
                <a:arcTo wR="9243" hR="21600" stAng="10800000" swAng="5400000"/>
                <a:lnTo>
                  <a:pt x="9243" y="0"/>
                </a:lnTo>
                <a:arcTo wR="9243" hR="21600" stAng="-5400000" swAng="166125"/>
                <a:lnTo>
                  <a:pt x="10281" y="137"/>
                </a:lnTo>
                <a:arcTo wR="9243" hR="21600" stAng="-5566125" swAng="-523387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上弧形箭头 6"/>
          <p:cNvSpPr/>
          <p:nvPr/>
        </p:nvSpPr>
        <p:spPr>
          <a:xfrm>
            <a:off x="6505560" y="1353960"/>
            <a:ext cx="1863720" cy="714600"/>
          </a:xfrm>
          <a:custGeom>
            <a:avLst/>
            <a:gdLst>
              <a:gd name="textAreaLeft" fmla="*/ 398520 w 1863720"/>
              <a:gd name="textAreaRight" fmla="*/ 1375560 w 186372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3" hR="21600" stAng="10800000" swAng="5400000"/>
                <a:lnTo>
                  <a:pt x="11319" y="0"/>
                </a:lnTo>
                <a:arcTo wR="9243" hR="21600" stAng="-5400000" swAng="3533546"/>
                <a:lnTo>
                  <a:pt x="21307" y="16200"/>
                </a:lnTo>
                <a:lnTo>
                  <a:pt x="19523" y="21600"/>
                </a:lnTo>
                <a:lnTo>
                  <a:pt x="17153" y="16200"/>
                </a:lnTo>
                <a:lnTo>
                  <a:pt x="18192" y="16200"/>
                </a:lnTo>
                <a:arcTo wR="9243" hR="21600" stAng="-1866454" swAng="-3367421"/>
                <a:lnTo>
                  <a:pt x="10281" y="137"/>
                </a:lnTo>
                <a:arcTo wR="9243" hR="21600" stAng="-5566125" swAng="-5233875"/>
                <a:close/>
              </a:path>
              <a:path fill="darkenLess" w="21600" h="21600">
                <a:moveTo>
                  <a:pt x="0" y="21600"/>
                </a:moveTo>
                <a:arcTo wR="9243" hR="21600" stAng="10800000" swAng="5400000"/>
                <a:lnTo>
                  <a:pt x="9243" y="0"/>
                </a:lnTo>
                <a:arcTo wR="9243" hR="21600" stAng="-5400000" swAng="166125"/>
                <a:lnTo>
                  <a:pt x="10281" y="137"/>
                </a:lnTo>
                <a:arcTo wR="9243" hR="21600" stAng="-5566125" swAng="-523387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990720" y="2284560"/>
            <a:ext cx="1574640" cy="3578040"/>
          </a:xfrm>
          <a:prstGeom prst="rect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呼出效率低下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手动拨号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人工分配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人工统计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客户信息分散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重复难以集中维护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放下电话就不知道和客户沟通了什么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翻了半天名片夹才找到客户电话，甚至弄丢了客户电话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852640" y="2284560"/>
            <a:ext cx="1576440" cy="3578040"/>
          </a:xfrm>
          <a:prstGeom prst="rect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客户来电不知道是谁，经常张冠李戴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边打电话边在电脑海量的文件中找客户的资料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客户耍赖，苦于没有录音证据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复询问客户资料，客户都不耐烦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4786200" y="2284560"/>
            <a:ext cx="1576440" cy="3578040"/>
          </a:xfrm>
          <a:prstGeom prst="rect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客户跟踪不及时，经常丢失客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知道客户都跟踪到什么进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为管理者，不知道员工每天电话是工作还是聊天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无法对电话量做一个全面的统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0"/>
          <p:cNvSpPr/>
          <p:nvPr/>
        </p:nvSpPr>
        <p:spPr>
          <a:xfrm>
            <a:off x="6649920" y="2284560"/>
            <a:ext cx="1575000" cy="3578040"/>
          </a:xfrm>
          <a:prstGeom prst="rect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0"/>
          </a:gradFill>
          <a:ln w="9360">
            <a:solidFill>
              <a:srgbClr val="000000"/>
            </a:solidFill>
            <a:round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感觉到呼叫中心的重要性，但价格实在太高昂，再说很多呼叫中心的功能也用不上，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个坐席建呼叫中心也不现实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那么，您需要峰信电话管理系统来帮忙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您是否有如下问题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系统拓扑图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网络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D:\phonsen\连接示意图\4路连接图副本.jpg"/>
          <p:cNvPicPr/>
          <p:nvPr/>
        </p:nvPicPr>
        <p:blipFill>
          <a:blip r:embed="rId1"/>
          <a:stretch/>
        </p:blipFill>
        <p:spPr>
          <a:xfrm>
            <a:off x="139680" y="1574640"/>
            <a:ext cx="8864640" cy="50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核心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3168000" y="2193840"/>
            <a:ext cx="3196080" cy="2888640"/>
            <a:chOff x="3168000" y="2193840"/>
            <a:chExt cx="3196080" cy="2888640"/>
          </a:xfrm>
        </p:grpSpPr>
        <p:grpSp>
          <p:nvGrpSpPr>
            <p:cNvPr id="65" name="Group 3"/>
            <p:cNvGrpSpPr/>
            <p:nvPr/>
          </p:nvGrpSpPr>
          <p:grpSpPr>
            <a:xfrm>
              <a:off x="3168000" y="2193840"/>
              <a:ext cx="3196080" cy="2888640"/>
              <a:chOff x="3168000" y="2193840"/>
              <a:chExt cx="3196080" cy="2888640"/>
            </a:xfrm>
          </p:grpSpPr>
          <p:sp>
            <p:nvSpPr>
              <p:cNvPr id="66" name="AutoShape 4"/>
              <p:cNvSpPr/>
              <p:nvPr/>
            </p:nvSpPr>
            <p:spPr>
              <a:xfrm flipH="1" rot="16200000">
                <a:off x="3087000" y="3296880"/>
                <a:ext cx="489600" cy="328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5"/>
              <p:cNvSpPr/>
              <p:nvPr/>
            </p:nvSpPr>
            <p:spPr>
              <a:xfrm flipH="1" rot="5400000">
                <a:off x="5954400" y="3244320"/>
                <a:ext cx="489960" cy="328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6"/>
              <p:cNvSpPr/>
              <p:nvPr/>
            </p:nvSpPr>
            <p:spPr>
              <a:xfrm flipH="1" rot="10800000">
                <a:off x="4526280" y="4755960"/>
                <a:ext cx="490320" cy="3265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7"/>
              <p:cNvSpPr/>
              <p:nvPr/>
            </p:nvSpPr>
            <p:spPr>
              <a:xfrm>
                <a:off x="3495960" y="2193840"/>
                <a:ext cx="2573280" cy="2561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8"/>
              <p:cNvSpPr/>
              <p:nvPr/>
            </p:nvSpPr>
            <p:spPr>
              <a:xfrm>
                <a:off x="3641760" y="2338200"/>
                <a:ext cx="2278080" cy="226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1a1a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9"/>
              <p:cNvSpPr/>
              <p:nvPr/>
            </p:nvSpPr>
            <p:spPr>
              <a:xfrm>
                <a:off x="3775320" y="2472840"/>
                <a:ext cx="2009520" cy="200412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50000">
                    <a:srgbClr val="fefefe"/>
                  </a:gs>
                  <a:gs pos="100000">
                    <a:srgbClr val="0099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10"/>
              <p:cNvSpPr/>
              <p:nvPr/>
            </p:nvSpPr>
            <p:spPr>
              <a:xfrm>
                <a:off x="3775320" y="2472840"/>
                <a:ext cx="2009520" cy="2004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1"/>
              <p:cNvSpPr/>
              <p:nvPr/>
            </p:nvSpPr>
            <p:spPr>
              <a:xfrm>
                <a:off x="3908520" y="2604240"/>
                <a:ext cx="1746360" cy="174096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50000">
                    <a:srgbClr val="005252"/>
                  </a:gs>
                  <a:gs pos="100000">
                    <a:srgbClr val="0099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2"/>
              <p:cNvSpPr/>
              <p:nvPr/>
            </p:nvSpPr>
            <p:spPr>
              <a:xfrm>
                <a:off x="3908520" y="2604240"/>
                <a:ext cx="1746360" cy="174096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 Box 13"/>
            <p:cNvSpPr/>
            <p:nvPr/>
          </p:nvSpPr>
          <p:spPr>
            <a:xfrm>
              <a:off x="4145400" y="2879640"/>
              <a:ext cx="127800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2400" spc="-1" strike="noStrike">
                  <a:solidFill>
                    <a:srgbClr val="020a53"/>
                  </a:solidFill>
                  <a:latin typeface="Arial"/>
                </a:rPr>
                <a:t>峰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2400" spc="-1" strike="noStrike">
                  <a:solidFill>
                    <a:srgbClr val="020a53"/>
                  </a:solidFill>
                  <a:latin typeface="Arial"/>
                </a:rPr>
                <a:t>电话管理系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AutoShape 14"/>
          <p:cNvSpPr/>
          <p:nvPr/>
        </p:nvSpPr>
        <p:spPr>
          <a:xfrm>
            <a:off x="2197080" y="5518080"/>
            <a:ext cx="511344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d9415a"/>
                </a:solidFill>
                <a:latin typeface="Verdana"/>
              </a:rPr>
              <a:t>其他多种实用的功能如：</a:t>
            </a: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生日提醒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知识库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电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拨号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通话监控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通话备注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导入导出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d9415a"/>
                </a:solidFill>
                <a:latin typeface="Verdana"/>
              </a:rPr>
              <a:t>WEB</a:t>
            </a:r>
            <a:r>
              <a:rPr b="1" lang="zh-CN" sz="1600" spc="-1" strike="noStrike">
                <a:solidFill>
                  <a:srgbClr val="d9415a"/>
                </a:solidFill>
                <a:latin typeface="Verdana"/>
              </a:rPr>
              <a:t>对接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5"/>
          <p:cNvGrpSpPr/>
          <p:nvPr/>
        </p:nvGrpSpPr>
        <p:grpSpPr>
          <a:xfrm>
            <a:off x="6516720" y="4797360"/>
            <a:ext cx="1905120" cy="609840"/>
            <a:chOff x="6516720" y="4797360"/>
            <a:chExt cx="1905120" cy="609840"/>
          </a:xfrm>
        </p:grpSpPr>
        <p:sp>
          <p:nvSpPr>
            <p:cNvPr id="78" name="AutoShape 16"/>
            <p:cNvSpPr/>
            <p:nvPr/>
          </p:nvSpPr>
          <p:spPr>
            <a:xfrm>
              <a:off x="6516720" y="47973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7"/>
            <p:cNvSpPr/>
            <p:nvPr/>
          </p:nvSpPr>
          <p:spPr>
            <a:xfrm>
              <a:off x="7111080" y="5064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任务安排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8"/>
          <p:cNvGrpSpPr/>
          <p:nvPr/>
        </p:nvGrpSpPr>
        <p:grpSpPr>
          <a:xfrm>
            <a:off x="6516720" y="2708280"/>
            <a:ext cx="1905120" cy="609480"/>
            <a:chOff x="6516720" y="2708280"/>
            <a:chExt cx="1905120" cy="609480"/>
          </a:xfrm>
        </p:grpSpPr>
        <p:sp>
          <p:nvSpPr>
            <p:cNvPr id="81" name="AutoShape 19"/>
            <p:cNvSpPr/>
            <p:nvPr/>
          </p:nvSpPr>
          <p:spPr>
            <a:xfrm>
              <a:off x="6516720" y="27082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0"/>
            <p:cNvSpPr/>
            <p:nvPr/>
          </p:nvSpPr>
          <p:spPr>
            <a:xfrm>
              <a:off x="7150680" y="28987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资料共享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1"/>
          <p:cNvGrpSpPr/>
          <p:nvPr/>
        </p:nvGrpSpPr>
        <p:grpSpPr>
          <a:xfrm>
            <a:off x="6516720" y="2060640"/>
            <a:ext cx="1903320" cy="608040"/>
            <a:chOff x="6516720" y="2060640"/>
            <a:chExt cx="1903320" cy="608040"/>
          </a:xfrm>
        </p:grpSpPr>
        <p:sp>
          <p:nvSpPr>
            <p:cNvPr id="84" name="AutoShape 22"/>
            <p:cNvSpPr/>
            <p:nvPr/>
          </p:nvSpPr>
          <p:spPr>
            <a:xfrm>
              <a:off x="6516720" y="2060640"/>
              <a:ext cx="1903320" cy="608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3"/>
            <p:cNvSpPr/>
            <p:nvPr/>
          </p:nvSpPr>
          <p:spPr>
            <a:xfrm>
              <a:off x="7089120" y="22629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坐席管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4"/>
          <p:cNvGrpSpPr/>
          <p:nvPr/>
        </p:nvGrpSpPr>
        <p:grpSpPr>
          <a:xfrm>
            <a:off x="6516720" y="4149720"/>
            <a:ext cx="1903320" cy="608040"/>
            <a:chOff x="6516720" y="4149720"/>
            <a:chExt cx="1903320" cy="608040"/>
          </a:xfrm>
        </p:grpSpPr>
        <p:sp>
          <p:nvSpPr>
            <p:cNvPr id="87" name="AutoShape 25"/>
            <p:cNvSpPr/>
            <p:nvPr/>
          </p:nvSpPr>
          <p:spPr>
            <a:xfrm>
              <a:off x="6516720" y="4149720"/>
              <a:ext cx="1903320" cy="608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6"/>
            <p:cNvSpPr/>
            <p:nvPr/>
          </p:nvSpPr>
          <p:spPr>
            <a:xfrm>
              <a:off x="7101720" y="43920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统计报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7"/>
          <p:cNvGrpSpPr/>
          <p:nvPr/>
        </p:nvGrpSpPr>
        <p:grpSpPr>
          <a:xfrm>
            <a:off x="6516720" y="3429000"/>
            <a:ext cx="1905120" cy="609480"/>
            <a:chOff x="6516720" y="3429000"/>
            <a:chExt cx="1905120" cy="609480"/>
          </a:xfrm>
        </p:grpSpPr>
        <p:sp>
          <p:nvSpPr>
            <p:cNvPr id="90" name="AutoShape 28"/>
            <p:cNvSpPr/>
            <p:nvPr/>
          </p:nvSpPr>
          <p:spPr>
            <a:xfrm>
              <a:off x="6516720" y="3429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29"/>
            <p:cNvSpPr/>
            <p:nvPr/>
          </p:nvSpPr>
          <p:spPr>
            <a:xfrm>
              <a:off x="7090200" y="3632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业务记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30"/>
          <p:cNvGrpSpPr/>
          <p:nvPr/>
        </p:nvGrpSpPr>
        <p:grpSpPr>
          <a:xfrm>
            <a:off x="1187280" y="4726080"/>
            <a:ext cx="1905120" cy="609480"/>
            <a:chOff x="1187280" y="4726080"/>
            <a:chExt cx="1905120" cy="609480"/>
          </a:xfrm>
        </p:grpSpPr>
        <p:sp>
          <p:nvSpPr>
            <p:cNvPr id="93" name="AutoShape 31"/>
            <p:cNvSpPr/>
            <p:nvPr/>
          </p:nvSpPr>
          <p:spPr>
            <a:xfrm>
              <a:off x="1187280" y="47260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2"/>
            <p:cNvSpPr/>
            <p:nvPr/>
          </p:nvSpPr>
          <p:spPr>
            <a:xfrm>
              <a:off x="1903680" y="49928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短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3"/>
          <p:cNvGrpSpPr/>
          <p:nvPr/>
        </p:nvGrpSpPr>
        <p:grpSpPr>
          <a:xfrm>
            <a:off x="1187280" y="2637000"/>
            <a:ext cx="1905120" cy="609480"/>
            <a:chOff x="1187280" y="2637000"/>
            <a:chExt cx="1905120" cy="609480"/>
          </a:xfrm>
        </p:grpSpPr>
        <p:sp>
          <p:nvSpPr>
            <p:cNvPr id="96" name="AutoShape 34"/>
            <p:cNvSpPr/>
            <p:nvPr/>
          </p:nvSpPr>
          <p:spPr>
            <a:xfrm>
              <a:off x="1187280" y="2637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5"/>
            <p:cNvSpPr/>
            <p:nvPr/>
          </p:nvSpPr>
          <p:spPr>
            <a:xfrm>
              <a:off x="1821240" y="28274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电话录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6"/>
          <p:cNvGrpSpPr/>
          <p:nvPr/>
        </p:nvGrpSpPr>
        <p:grpSpPr>
          <a:xfrm>
            <a:off x="1187280" y="1989000"/>
            <a:ext cx="1905120" cy="609840"/>
            <a:chOff x="1187280" y="1989000"/>
            <a:chExt cx="1905120" cy="609840"/>
          </a:xfrm>
        </p:grpSpPr>
        <p:sp>
          <p:nvSpPr>
            <p:cNvPr id="99" name="AutoShape 37"/>
            <p:cNvSpPr/>
            <p:nvPr/>
          </p:nvSpPr>
          <p:spPr>
            <a:xfrm>
              <a:off x="1187280" y="19890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8"/>
            <p:cNvSpPr/>
            <p:nvPr/>
          </p:nvSpPr>
          <p:spPr>
            <a:xfrm>
              <a:off x="1701360" y="21924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来去电弹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9"/>
          <p:cNvGrpSpPr/>
          <p:nvPr/>
        </p:nvGrpSpPr>
        <p:grpSpPr>
          <a:xfrm>
            <a:off x="1187280" y="4076640"/>
            <a:ext cx="1905120" cy="609840"/>
            <a:chOff x="1187280" y="4076640"/>
            <a:chExt cx="1905120" cy="609840"/>
          </a:xfrm>
        </p:grpSpPr>
        <p:sp>
          <p:nvSpPr>
            <p:cNvPr id="102" name="AutoShape 40"/>
            <p:cNvSpPr/>
            <p:nvPr/>
          </p:nvSpPr>
          <p:spPr>
            <a:xfrm>
              <a:off x="1187280" y="407664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1"/>
            <p:cNvSpPr/>
            <p:nvPr/>
          </p:nvSpPr>
          <p:spPr>
            <a:xfrm>
              <a:off x="1773720" y="43196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通话记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2"/>
          <p:cNvGrpSpPr/>
          <p:nvPr/>
        </p:nvGrpSpPr>
        <p:grpSpPr>
          <a:xfrm>
            <a:off x="1187280" y="3357720"/>
            <a:ext cx="1905120" cy="609480"/>
            <a:chOff x="1187280" y="3357720"/>
            <a:chExt cx="1905120" cy="609480"/>
          </a:xfrm>
        </p:grpSpPr>
        <p:sp>
          <p:nvSpPr>
            <p:cNvPr id="105" name="AutoShape 43"/>
            <p:cNvSpPr/>
            <p:nvPr/>
          </p:nvSpPr>
          <p:spPr>
            <a:xfrm>
              <a:off x="1187280" y="33577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44"/>
            <p:cNvSpPr/>
            <p:nvPr/>
          </p:nvSpPr>
          <p:spPr>
            <a:xfrm>
              <a:off x="1759320" y="35607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客户管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360" y="1642680"/>
            <a:ext cx="400068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功能描述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点击联系人电话，或者通话记录里的电话号码，系统自动将电话号码拨打出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使用效果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可以省掉坐席的拨号时间，而且还不会拨错，大大提高了工作效率，使用电脑拨号，话务量可以提高</a:t>
            </a:r>
            <a:r>
              <a:rPr b="0" lang="en-US" sz="2400" spc="-1" strike="noStrike">
                <a:solidFill>
                  <a:srgbClr val="555555"/>
                </a:solidFill>
                <a:latin typeface="宋体"/>
              </a:rPr>
              <a:t>20%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28400" y="857160"/>
            <a:ext cx="82278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电脑拨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3" descr="点击拨号.png"/>
          <p:cNvPicPr/>
          <p:nvPr/>
        </p:nvPicPr>
        <p:blipFill>
          <a:blip r:embed="rId1"/>
          <a:stretch/>
        </p:blipFill>
        <p:spPr>
          <a:xfrm>
            <a:off x="4071960" y="1643040"/>
            <a:ext cx="476244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643040"/>
            <a:ext cx="385776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功能描述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可以查询一个号码的历史通话记录，包括什么时间，哪个坐席通话的，以及每次通话的大概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555555"/>
                </a:solidFill>
                <a:latin typeface="宋体"/>
              </a:rPr>
              <a:t>使用效果：</a:t>
            </a:r>
            <a:r>
              <a:rPr b="0" lang="zh-CN" sz="2400" spc="-1" strike="noStrike">
                <a:solidFill>
                  <a:srgbClr val="555555"/>
                </a:solidFill>
                <a:latin typeface="宋体"/>
              </a:rPr>
              <a:t>避免对一个客户进行重复跟踪，造成客户反感，能清楚知道某个客户是哪个坐席进行跟踪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28400" y="857160"/>
            <a:ext cx="82278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通话记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4" descr="交往记录.png"/>
          <p:cNvPicPr/>
          <p:nvPr/>
        </p:nvPicPr>
        <p:blipFill>
          <a:blip r:embed="rId1"/>
          <a:stretch/>
        </p:blipFill>
        <p:spPr>
          <a:xfrm>
            <a:off x="3714840" y="1714680"/>
            <a:ext cx="534168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4:19:04Z</dcterms:created>
  <dc:creator>Nigel</dc:creator>
  <dc:description/>
  <dc:language>en-US</dc:language>
  <cp:lastModifiedBy>微软用户</cp:lastModifiedBy>
  <cp:lastPrinted>1899-12-30T00:00:00Z</cp:lastPrinted>
  <dcterms:modified xsi:type="dcterms:W3CDTF">2012-07-17T10:00:40Z</dcterms:modified>
  <cp:revision>125</cp:revision>
  <dc:subject/>
  <dc:title>EA系列一体化IP分布式呼叫中心产品 功能详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1</vt:lpwstr>
  </property>
</Properties>
</file>