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5867280" y="1522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6248520" y="166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295d8c"/>
                </a:solidFill>
                <a:latin typeface="Arial Black"/>
                <a:ea typeface="Gulim"/>
              </a:rPr>
              <a:t>PhonSe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峰信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9142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峰信 电话管理系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4500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上海艾家电子商务有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r.png"/>
          <p:cNvPicPr/>
          <p:nvPr/>
        </p:nvPicPr>
        <p:blipFill>
          <a:blip r:embed="rId1"/>
          <a:stretch/>
        </p:blipFill>
        <p:spPr>
          <a:xfrm>
            <a:off x="3419640" y="24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3123720"/>
            <a:ext cx="9144000" cy="24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客户资料自动弹屏显示</a:t>
            </a:r>
            <a:r>
              <a:rPr b="0" lang="en-US" sz="2400" spc="-1" strike="noStrike">
                <a:solidFill>
                  <a:srgbClr val="555555"/>
                </a:solidFill>
                <a:latin typeface="宋体"/>
              </a:rPr>
              <a:t>，加快业务处理效率；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客户来电就能叫出客户的姓名，使客户倍感亲切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!</a:t>
            </a:r>
            <a:r>
              <a:rPr b="0" lang="en-US" sz="2400" spc="-1" strike="noStrike">
                <a:solidFill>
                  <a:srgbClr val="555555"/>
                </a:solidFill>
                <a:latin typeface="宋体"/>
              </a:rPr>
              <a:t>客户的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基本信息，过往沟通信息，业务记录等尽收眼底，让您在谈话之前已心中有数，不但能有效打破距离隔阂，而且有利于把握谈话的主动权。通话号码归属地自动显示在弹屏界面，在弹屏界面轻点一下鼠标，即可自动打开通话号码的网页搜索信息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百度，</a:t>
            </a:r>
            <a:r>
              <a:rPr b="0" lang="en-US" sz="2400" spc="-1" strike="noStrike">
                <a:solidFill>
                  <a:srgbClr val="555555"/>
                </a:solidFill>
                <a:latin typeface="宋体"/>
              </a:rPr>
              <a:t>google)</a:t>
            </a:r>
            <a:r>
              <a:rPr b="0" lang="en-US" sz="2400" spc="-1" strike="noStrike">
                <a:solidFill>
                  <a:srgbClr val="555555"/>
                </a:solidFill>
                <a:latin typeface="宋体"/>
              </a:rPr>
              <a:t>，帮助您对陌生客户的全面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核心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来去电弹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核心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来去电弹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D:\phonsen\网站内容\软件界面截图\20091022134249576.jpg"/>
          <p:cNvPicPr/>
          <p:nvPr/>
        </p:nvPicPr>
        <p:blipFill>
          <a:blip r:embed="rId1"/>
          <a:stretch/>
        </p:blipFill>
        <p:spPr>
          <a:xfrm>
            <a:off x="1447920" y="1676520"/>
            <a:ext cx="6264000" cy="492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1308240"/>
            <a:ext cx="8382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核心功能——电话录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800748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座席通话自动录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录音保存在电脑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永不丢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独创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16: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压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,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小时录音仅占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录音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自动包含通话坐席号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通话号码和通话时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28"/>
          <p:cNvSpPr/>
          <p:nvPr/>
        </p:nvSpPr>
        <p:spPr>
          <a:xfrm>
            <a:off x="7281720" y="67388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3" descr="C:\Documents and Settings\Owner\桌面\ds.jpg"/>
          <p:cNvPicPr/>
          <p:nvPr/>
        </p:nvPicPr>
        <p:blipFill>
          <a:blip r:embed="rId1"/>
          <a:stretch/>
        </p:blipFill>
        <p:spPr>
          <a:xfrm>
            <a:off x="500040" y="2209680"/>
            <a:ext cx="8143920" cy="38862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核心功能客户关系管理</a:t>
            </a: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(CR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核心功能客户关系管理</a:t>
            </a: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(CR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D:\phonsen\网站内容\软件界面截图\2010060813485152207.jpg"/>
          <p:cNvPicPr/>
          <p:nvPr/>
        </p:nvPicPr>
        <p:blipFill>
          <a:blip r:embed="rId1"/>
          <a:stretch/>
        </p:blipFill>
        <p:spPr>
          <a:xfrm>
            <a:off x="228600" y="1677960"/>
            <a:ext cx="4419720" cy="3579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D:\phonsen\网站内容\软件界面截图\导入导出.jpg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6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80074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1360" indent="-27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坐席权限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坐席间弹屏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坐席客户资料共享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坐席电话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核心功能——座席管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C:\Documents and Settings\Owner\桌面\坐席权限控制.jpg"/>
          <p:cNvPicPr/>
          <p:nvPr/>
        </p:nvPicPr>
        <p:blipFill>
          <a:blip r:embed="rId1"/>
          <a:stretch/>
        </p:blipFill>
        <p:spPr>
          <a:xfrm>
            <a:off x="4952880" y="1752480"/>
            <a:ext cx="270540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核心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通话记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80880" y="1600200"/>
            <a:ext cx="861084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脑拨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替人工拨号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省时省力提高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话备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通电话都可以备注，方便得知沟通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话查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根据条件查询通话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话统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统计每个坐席通话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机通话结束自动发短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D:\phonsen\网站内容\界面\电话备注.JPG"/>
          <p:cNvPicPr/>
          <p:nvPr/>
        </p:nvPicPr>
        <p:blipFill>
          <a:blip r:embed="rId1"/>
          <a:stretch/>
        </p:blipFill>
        <p:spPr>
          <a:xfrm>
            <a:off x="152280" y="3733920"/>
            <a:ext cx="3733920" cy="293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D:\phonsen\网站内容\软件界面截图\通话记录查询.JPG"/>
          <p:cNvPicPr/>
          <p:nvPr/>
        </p:nvPicPr>
        <p:blipFill>
          <a:blip r:embed="rId2"/>
          <a:stretch/>
        </p:blipFill>
        <p:spPr>
          <a:xfrm>
            <a:off x="4648320" y="3352680"/>
            <a:ext cx="388620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核心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通话记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D:\phonsen\网站内容\软件界面截图\通话摘要.jpg"/>
          <p:cNvPicPr/>
          <p:nvPr/>
        </p:nvPicPr>
        <p:blipFill>
          <a:blip r:embed="rId1"/>
          <a:stretch/>
        </p:blipFill>
        <p:spPr>
          <a:xfrm>
            <a:off x="1181160" y="1371600"/>
            <a:ext cx="6286320" cy="2651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D:\phonsen\网站内容\软件界面截图\通话记录界面.jpg"/>
          <p:cNvPicPr/>
          <p:nvPr/>
        </p:nvPicPr>
        <p:blipFill>
          <a:blip r:embed="rId2"/>
          <a:stretch/>
        </p:blipFill>
        <p:spPr>
          <a:xfrm>
            <a:off x="5334120" y="40384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D:\phonsen\网站内容\软件界面截图\通话记录统计.JPG"/>
          <p:cNvPicPr/>
          <p:nvPr/>
        </p:nvPicPr>
        <p:blipFill>
          <a:blip r:embed="rId3"/>
          <a:stretch/>
        </p:blipFill>
        <p:spPr>
          <a:xfrm>
            <a:off x="152280" y="3886200"/>
            <a:ext cx="5105520" cy="2917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533520" y="53341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统计分析可以查询任意时间段内的通话次数，通话时长，平均通话时长等数据，非常适合电话销售企业做绩效考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核心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业务记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965240" y="2093760"/>
            <a:ext cx="43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D:\phonsen\网站内容\软件界面截图\业务记录.jpg"/>
          <p:cNvPicPr/>
          <p:nvPr/>
        </p:nvPicPr>
        <p:blipFill>
          <a:blip r:embed="rId1"/>
          <a:stretch/>
        </p:blipFill>
        <p:spPr>
          <a:xfrm>
            <a:off x="152280" y="1600200"/>
            <a:ext cx="4419720" cy="3578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D:\phonsen\网站内容\软件界面截图\业务字段.jpg"/>
          <p:cNvPicPr/>
          <p:nvPr/>
        </p:nvPicPr>
        <p:blipFill>
          <a:blip r:embed="rId2"/>
          <a:stretch/>
        </p:blipFill>
        <p:spPr>
          <a:xfrm>
            <a:off x="4343400" y="3036960"/>
            <a:ext cx="4648320" cy="36687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5029200" y="2286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业务记录字段可以自定义，可以有下拉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核心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定义字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27"/>
          <p:cNvSpPr/>
          <p:nvPr/>
        </p:nvSpPr>
        <p:spPr>
          <a:xfrm>
            <a:off x="1965240" y="2093760"/>
            <a:ext cx="43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28" descr="C:\Documents and Settings\Owner\桌面\教育机构专用.jpg"/>
          <p:cNvPicPr/>
          <p:nvPr/>
        </p:nvPicPr>
        <p:blipFill>
          <a:blip r:embed="rId1"/>
          <a:stretch/>
        </p:blipFill>
        <p:spPr>
          <a:xfrm>
            <a:off x="152280" y="1523880"/>
            <a:ext cx="4419720" cy="357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29" descr="C:\Documents and Settings\Owner\桌面\未命名2.jpg"/>
          <p:cNvPicPr/>
          <p:nvPr/>
        </p:nvPicPr>
        <p:blipFill>
          <a:blip r:embed="rId2"/>
          <a:stretch/>
        </p:blipFill>
        <p:spPr>
          <a:xfrm>
            <a:off x="4648320" y="3152880"/>
            <a:ext cx="4343400" cy="35179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30"/>
          <p:cNvSpPr/>
          <p:nvPr/>
        </p:nvSpPr>
        <p:spPr>
          <a:xfrm>
            <a:off x="380880" y="54100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过自定义联系人列表字段，打造适合自己的管理系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1558800" y="4573440"/>
            <a:ext cx="608040" cy="608040"/>
            <a:chOff x="1558800" y="4573440"/>
            <a:chExt cx="608040" cy="608040"/>
          </a:xfrm>
        </p:grpSpPr>
        <p:sp>
          <p:nvSpPr>
            <p:cNvPr id="45" name="Oval 2"/>
            <p:cNvSpPr/>
            <p:nvPr/>
          </p:nvSpPr>
          <p:spPr>
            <a:xfrm>
              <a:off x="1558800" y="45734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fefefe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3"/>
            <p:cNvSpPr/>
            <p:nvPr/>
          </p:nvSpPr>
          <p:spPr>
            <a:xfrm>
              <a:off x="1558800" y="45734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"/>
            <p:cNvSpPr/>
            <p:nvPr/>
          </p:nvSpPr>
          <p:spPr>
            <a:xfrm>
              <a:off x="1598400" y="4613040"/>
              <a:ext cx="528120" cy="52848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1b1b52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"/>
            <p:cNvSpPr/>
            <p:nvPr/>
          </p:nvSpPr>
          <p:spPr>
            <a:xfrm>
              <a:off x="1638000" y="4652640"/>
              <a:ext cx="528480" cy="528480"/>
            </a:xfrm>
            <a:prstGeom prst="ellipse">
              <a:avLst/>
            </a:prstGeom>
            <a:gradFill rotWithShape="0">
              <a:gsLst>
                <a:gs pos="0">
                  <a:srgbClr val="202060"/>
                </a:gs>
                <a:gs pos="100000">
                  <a:srgbClr val="3333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6"/>
            <p:cNvSpPr/>
            <p:nvPr/>
          </p:nvSpPr>
          <p:spPr>
            <a:xfrm>
              <a:off x="1626840" y="4640040"/>
              <a:ext cx="474840" cy="474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7"/>
            <p:cNvSpPr/>
            <p:nvPr/>
          </p:nvSpPr>
          <p:spPr>
            <a:xfrm>
              <a:off x="1634760" y="464796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8"/>
            <p:cNvSpPr/>
            <p:nvPr/>
          </p:nvSpPr>
          <p:spPr>
            <a:xfrm>
              <a:off x="1641240" y="4650840"/>
              <a:ext cx="447840" cy="44784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9"/>
            <p:cNvSpPr/>
            <p:nvPr/>
          </p:nvSpPr>
          <p:spPr>
            <a:xfrm>
              <a:off x="1645920" y="4654080"/>
              <a:ext cx="427320" cy="41940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1669680" y="4667040"/>
              <a:ext cx="379440" cy="340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1"/>
          <p:cNvGrpSpPr/>
          <p:nvPr/>
        </p:nvGrpSpPr>
        <p:grpSpPr>
          <a:xfrm>
            <a:off x="1539720" y="2773440"/>
            <a:ext cx="608040" cy="608040"/>
            <a:chOff x="1539720" y="2773440"/>
            <a:chExt cx="608040" cy="608040"/>
          </a:xfrm>
        </p:grpSpPr>
        <p:sp>
          <p:nvSpPr>
            <p:cNvPr id="55" name="Oval 12"/>
            <p:cNvSpPr/>
            <p:nvPr/>
          </p:nvSpPr>
          <p:spPr>
            <a:xfrm>
              <a:off x="1539720" y="27734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fefefe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1539720" y="27734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1579320" y="2812680"/>
              <a:ext cx="528480" cy="5288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1b1b52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1618920" y="2852280"/>
              <a:ext cx="528480" cy="528840"/>
            </a:xfrm>
            <a:prstGeom prst="ellipse">
              <a:avLst/>
            </a:prstGeom>
            <a:gradFill rotWithShape="0">
              <a:gsLst>
                <a:gs pos="0">
                  <a:srgbClr val="202060"/>
                </a:gs>
                <a:gs pos="100000">
                  <a:srgbClr val="3333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1607760" y="2839680"/>
              <a:ext cx="474840" cy="474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1615680" y="284760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1622160" y="2850840"/>
              <a:ext cx="447840" cy="44820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1626840" y="2854080"/>
              <a:ext cx="427320" cy="41940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1650600" y="2866680"/>
              <a:ext cx="379440" cy="340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21"/>
          <p:cNvSpPr/>
          <p:nvPr/>
        </p:nvSpPr>
        <p:spPr>
          <a:xfrm>
            <a:off x="2049480" y="2421000"/>
            <a:ext cx="48006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278080" y="364500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核心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2049480" y="3335400"/>
            <a:ext cx="48006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2340000" y="1917720"/>
            <a:ext cx="44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产品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5"/>
          <p:cNvSpPr/>
          <p:nvPr/>
        </p:nvSpPr>
        <p:spPr>
          <a:xfrm>
            <a:off x="2049480" y="4227480"/>
            <a:ext cx="48006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351160" y="2781360"/>
            <a:ext cx="44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系统拓扑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7"/>
          <p:cNvGrpSpPr/>
          <p:nvPr/>
        </p:nvGrpSpPr>
        <p:grpSpPr>
          <a:xfrm>
            <a:off x="1547640" y="1844640"/>
            <a:ext cx="608040" cy="608040"/>
            <a:chOff x="1547640" y="1844640"/>
            <a:chExt cx="608040" cy="608040"/>
          </a:xfrm>
        </p:grpSpPr>
        <p:sp>
          <p:nvSpPr>
            <p:cNvPr id="71" name="Oval 28"/>
            <p:cNvSpPr/>
            <p:nvPr/>
          </p:nvSpPr>
          <p:spPr>
            <a:xfrm>
              <a:off x="1547640" y="18446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efefe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1547640" y="18446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be0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1587240" y="1883880"/>
              <a:ext cx="528480" cy="5288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64787a"/>
                </a:gs>
                <a:gs pos="100000">
                  <a:srgbClr val="bbe0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1587240" y="1885680"/>
              <a:ext cx="528480" cy="528840"/>
            </a:xfrm>
            <a:prstGeom prst="ellipse">
              <a:avLst/>
            </a:prstGeom>
            <a:gradFill rotWithShape="0">
              <a:gsLst>
                <a:gs pos="0">
                  <a:srgbClr val="768d8f"/>
                </a:gs>
                <a:gs pos="100000">
                  <a:srgbClr val="bbe0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1615680" y="1910880"/>
              <a:ext cx="474840" cy="474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1623600" y="1918800"/>
              <a:ext cx="460440" cy="46080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1630080" y="1922040"/>
              <a:ext cx="447840" cy="44820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1634760" y="1925280"/>
              <a:ext cx="427320" cy="41976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1658520" y="1937880"/>
              <a:ext cx="379440" cy="340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7"/>
            <p:cNvSpPr/>
            <p:nvPr/>
          </p:nvSpPr>
          <p:spPr>
            <a:xfrm>
              <a:off x="1668600" y="189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38"/>
          <p:cNvSpPr/>
          <p:nvPr/>
        </p:nvSpPr>
        <p:spPr>
          <a:xfrm>
            <a:off x="1671480" y="2857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9"/>
          <p:cNvSpPr/>
          <p:nvPr/>
        </p:nvSpPr>
        <p:spPr>
          <a:xfrm>
            <a:off x="2011320" y="5135400"/>
            <a:ext cx="48006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2239920" y="458136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1"/>
          <p:cNvSpPr/>
          <p:nvPr/>
        </p:nvSpPr>
        <p:spPr>
          <a:xfrm>
            <a:off x="1661760" y="463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2"/>
          <p:cNvGrpSpPr/>
          <p:nvPr/>
        </p:nvGrpSpPr>
        <p:grpSpPr>
          <a:xfrm>
            <a:off x="1563840" y="3673440"/>
            <a:ext cx="608040" cy="608040"/>
            <a:chOff x="1563840" y="3673440"/>
            <a:chExt cx="608040" cy="608040"/>
          </a:xfrm>
        </p:grpSpPr>
        <p:grpSp>
          <p:nvGrpSpPr>
            <p:cNvPr id="86" name="Group 43"/>
            <p:cNvGrpSpPr/>
            <p:nvPr/>
          </p:nvGrpSpPr>
          <p:grpSpPr>
            <a:xfrm>
              <a:off x="1563840" y="3673440"/>
              <a:ext cx="608040" cy="608040"/>
              <a:chOff x="1563840" y="3673440"/>
              <a:chExt cx="608040" cy="608040"/>
            </a:xfrm>
          </p:grpSpPr>
          <p:sp>
            <p:nvSpPr>
              <p:cNvPr id="87" name="Text Box 44"/>
              <p:cNvSpPr/>
              <p:nvPr/>
            </p:nvSpPr>
            <p:spPr>
              <a:xfrm>
                <a:off x="1688040" y="3749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5"/>
              <p:cNvSpPr/>
              <p:nvPr/>
            </p:nvSpPr>
            <p:spPr>
              <a:xfrm>
                <a:off x="1563840" y="3673440"/>
                <a:ext cx="608040" cy="60804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50000">
                    <a:srgbClr val="fefefe"/>
                  </a:gs>
                  <a:gs pos="100000">
                    <a:srgbClr val="00cc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46"/>
              <p:cNvSpPr/>
              <p:nvPr/>
            </p:nvSpPr>
            <p:spPr>
              <a:xfrm>
                <a:off x="1563840" y="3673440"/>
                <a:ext cx="608040" cy="608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be0e3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47"/>
              <p:cNvSpPr/>
              <p:nvPr/>
            </p:nvSpPr>
            <p:spPr>
              <a:xfrm>
                <a:off x="1603080" y="3712680"/>
                <a:ext cx="528840" cy="528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64787a"/>
                  </a:gs>
                  <a:gs pos="100000">
                    <a:srgbClr val="bbe0e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48"/>
              <p:cNvSpPr/>
              <p:nvPr/>
            </p:nvSpPr>
            <p:spPr>
              <a:xfrm>
                <a:off x="1603080" y="3714480"/>
                <a:ext cx="528840" cy="528840"/>
              </a:xfrm>
              <a:prstGeom prst="ellipse">
                <a:avLst/>
              </a:prstGeom>
              <a:gradFill rotWithShape="0">
                <a:gsLst>
                  <a:gs pos="0">
                    <a:srgbClr val="768d8f"/>
                  </a:gs>
                  <a:gs pos="100000">
                    <a:srgbClr val="bbe0e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49"/>
              <p:cNvSpPr/>
              <p:nvPr/>
            </p:nvSpPr>
            <p:spPr>
              <a:xfrm>
                <a:off x="1631520" y="3739680"/>
                <a:ext cx="474840" cy="474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50"/>
              <p:cNvSpPr/>
              <p:nvPr/>
            </p:nvSpPr>
            <p:spPr>
              <a:xfrm>
                <a:off x="1639440" y="3747600"/>
                <a:ext cx="460440" cy="46080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51"/>
              <p:cNvSpPr/>
              <p:nvPr/>
            </p:nvSpPr>
            <p:spPr>
              <a:xfrm>
                <a:off x="1645920" y="3750840"/>
                <a:ext cx="448200" cy="44820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c0c0c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52"/>
              <p:cNvSpPr/>
              <p:nvPr/>
            </p:nvSpPr>
            <p:spPr>
              <a:xfrm>
                <a:off x="1650600" y="3754080"/>
                <a:ext cx="427680" cy="41976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53"/>
              <p:cNvSpPr/>
              <p:nvPr/>
            </p:nvSpPr>
            <p:spPr>
              <a:xfrm>
                <a:off x="1674360" y="3766680"/>
                <a:ext cx="380160" cy="34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54"/>
            <p:cNvSpPr/>
            <p:nvPr/>
          </p:nvSpPr>
          <p:spPr>
            <a:xfrm>
              <a:off x="1684080" y="3749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55"/>
          <p:cNvSpPr/>
          <p:nvPr/>
        </p:nvSpPr>
        <p:spPr>
          <a:xfrm>
            <a:off x="2306520" y="45100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典型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9"/>
          <p:cNvGrpSpPr/>
          <p:nvPr/>
        </p:nvGrpSpPr>
        <p:grpSpPr>
          <a:xfrm>
            <a:off x="1523880" y="5487840"/>
            <a:ext cx="608040" cy="608040"/>
            <a:chOff x="1523880" y="5487840"/>
            <a:chExt cx="608040" cy="608040"/>
          </a:xfrm>
        </p:grpSpPr>
        <p:sp>
          <p:nvSpPr>
            <p:cNvPr id="101" name="Oval 60"/>
            <p:cNvSpPr/>
            <p:nvPr/>
          </p:nvSpPr>
          <p:spPr>
            <a:xfrm>
              <a:off x="1523880" y="54878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fefefe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1523880" y="54878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1563480" y="5527440"/>
              <a:ext cx="528120" cy="52848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1b1b52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1603080" y="5567040"/>
              <a:ext cx="528480" cy="528480"/>
            </a:xfrm>
            <a:prstGeom prst="ellipse">
              <a:avLst/>
            </a:prstGeom>
            <a:gradFill rotWithShape="0">
              <a:gsLst>
                <a:gs pos="0">
                  <a:srgbClr val="202060"/>
                </a:gs>
                <a:gs pos="100000">
                  <a:srgbClr val="3333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1591920" y="5554440"/>
              <a:ext cx="474840" cy="474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5"/>
            <p:cNvSpPr/>
            <p:nvPr/>
          </p:nvSpPr>
          <p:spPr>
            <a:xfrm>
              <a:off x="1599840" y="556236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1606320" y="5565240"/>
              <a:ext cx="447840" cy="44784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7"/>
            <p:cNvSpPr/>
            <p:nvPr/>
          </p:nvSpPr>
          <p:spPr>
            <a:xfrm>
              <a:off x="1611000" y="5568480"/>
              <a:ext cx="427320" cy="41940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1634760" y="5581440"/>
              <a:ext cx="379440" cy="340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69"/>
          <p:cNvSpPr/>
          <p:nvPr/>
        </p:nvSpPr>
        <p:spPr>
          <a:xfrm>
            <a:off x="2057400" y="6018120"/>
            <a:ext cx="48006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0"/>
          <p:cNvSpPr/>
          <p:nvPr/>
        </p:nvSpPr>
        <p:spPr>
          <a:xfrm>
            <a:off x="1676520" y="5562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2"/>
          <p:cNvSpPr/>
          <p:nvPr/>
        </p:nvSpPr>
        <p:spPr>
          <a:xfrm>
            <a:off x="2498760" y="552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3"/>
          <p:cNvSpPr/>
          <p:nvPr/>
        </p:nvSpPr>
        <p:spPr>
          <a:xfrm>
            <a:off x="23623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其他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965240" y="2093760"/>
            <a:ext cx="43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838080" y="1905120"/>
            <a:ext cx="2514600" cy="47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短信收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任务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客户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批量拨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日提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企业彩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来电留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权限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话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4191120" y="2133720"/>
            <a:ext cx="4038480" cy="33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软件拨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网页划词拨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网页划词添加客户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话过程中放录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黑白名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派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4114800" y="6186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：不同版本产品，功能会有所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典型客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228600" y="1447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峰信电话管理系统实用性强，字段可以自定义，在各行各业均有广泛的应用，以下为部分客户，排名不分先后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04920" y="1981080"/>
            <a:ext cx="34290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金融 保险 证券 投资：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招行银行山东全网点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中信银行山东全网点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民生银行大连分行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民生银行市东支行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农业银行湖州分行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农业银行阿坝分行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农业银行德清支行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华夏银行常州分行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光大银行北京分行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华泰联合证券体育东路营业部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齐鲁证券斜土路营业部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宏源期货康定路营业部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中投证券东方路营业部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长城伟业期货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上海中期期货经纪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国信证券石家庄广安大街营业部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4572000" y="1981080"/>
            <a:ext cx="38862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党政机关 社会团体 非盈利机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湖北省公安厅交警总队高管支队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赣州市交警大队高管支队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延边州公安局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黑龙江五常市公安局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信丰县高速交警四大队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同江市公安局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佛山供电局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黑龙江密山市城管大队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无锡市城市管理行政执法支队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郁南银视数字电视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常州市金坛质量技术监督局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常州盐业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武汉广播电视总台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苏州税务局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邯郸市地税稽查局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济南铁路局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典型客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28600" y="1447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峰信电话管理系统实用性强，字段可以自定义，在各行各业均有广泛的应用，以下为部分客户，排名不分先后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04920" y="2066760"/>
            <a:ext cx="59436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汽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怡通汽车服务有限公司（上海南汇大众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4</a:t>
            </a:r>
            <a:r>
              <a:rPr b="0" lang="en-US" sz="1800" spc="-1" strike="noStrike">
                <a:solidFill>
                  <a:srgbClr val="555555"/>
                </a:solidFill>
                <a:latin typeface="Arial Helvetica sans-serif"/>
              </a:rPr>
              <a:t>S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店）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青浦大众（上海青浦大众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4</a:t>
            </a:r>
            <a:r>
              <a:rPr b="0" lang="en-US" sz="1800" spc="-1" strike="noStrike">
                <a:solidFill>
                  <a:srgbClr val="555555"/>
                </a:solidFill>
                <a:latin typeface="Arial Helvetica sans-serif"/>
              </a:rPr>
              <a:t>S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店）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东驰汽车服务有限公司（上海浦东奔驰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4</a:t>
            </a:r>
            <a:r>
              <a:rPr b="0" lang="en-US" sz="1800" spc="-1" strike="noStrike">
                <a:solidFill>
                  <a:srgbClr val="555555"/>
                </a:solidFill>
                <a:latin typeface="Arial Helvetica sans-serif"/>
              </a:rPr>
              <a:t>S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店）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山东邹平金通汽车销售服务有限公司（山东邹平大众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4</a:t>
            </a:r>
            <a:r>
              <a:rPr b="0" lang="en-US" sz="1800" spc="-1" strike="noStrike">
                <a:solidFill>
                  <a:srgbClr val="555555"/>
                </a:solidFill>
                <a:latin typeface="Arial Helvetica sans-serif"/>
              </a:rPr>
              <a:t>S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店）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大众汽车上虞销售服务有限公司（浙江上虞大众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4</a:t>
            </a:r>
            <a:r>
              <a:rPr b="0" lang="en-US" sz="1800" spc="-1" strike="noStrike">
                <a:solidFill>
                  <a:srgbClr val="555555"/>
                </a:solidFill>
                <a:latin typeface="Arial Helvetica sans-serif"/>
              </a:rPr>
              <a:t>S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店）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台州市诺亚汽车贸易有限公司（浙江台州马自达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4</a:t>
            </a:r>
            <a:r>
              <a:rPr b="0" lang="en-US" sz="1800" spc="-1" strike="noStrike">
                <a:solidFill>
                  <a:srgbClr val="555555"/>
                </a:solidFill>
                <a:latin typeface="Arial Helvetica sans-serif"/>
              </a:rPr>
              <a:t>S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店）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浙江众达汽车销售服务有限公司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(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浙江嘉兴上海大众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4</a:t>
            </a:r>
            <a:r>
              <a:rPr b="0" lang="en-US" sz="1800" spc="-1" strike="noStrike">
                <a:solidFill>
                  <a:srgbClr val="555555"/>
                </a:solidFill>
                <a:latin typeface="Arial Helvetica sans-serif"/>
              </a:rPr>
              <a:t>S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店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)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柳州市粤宝汽车销售服务有限公司（广西柳州宝马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4</a:t>
            </a:r>
            <a:r>
              <a:rPr b="0" lang="en-US" sz="1800" spc="-1" strike="noStrike">
                <a:solidFill>
                  <a:srgbClr val="555555"/>
                </a:solidFill>
                <a:latin typeface="Arial Helvetica sans-serif"/>
              </a:rPr>
              <a:t>S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店）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义乌市国邦汽车销售服务有限公司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(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浙江义乌奔驰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4</a:t>
            </a:r>
            <a:r>
              <a:rPr b="0" lang="en-US" sz="1800" spc="-1" strike="noStrike">
                <a:solidFill>
                  <a:srgbClr val="555555"/>
                </a:solidFill>
                <a:latin typeface="Arial Helvetica sans-serif"/>
              </a:rPr>
              <a:t>S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店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)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油猴（青岛）汽车服务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四川华泰现代销售公司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324480" y="2057400"/>
            <a:ext cx="28195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教育 培训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复旦大学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浙江师范大学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上海市昂立进修学院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上海思源教育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上海众凯教育信息咨询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上海颖源教育咨询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上海荣安驾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典型客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47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峰信电话管理系统实用性强，字段可以自定义，在各行各业均有广泛的应用，以下为部分客户，排名不分先后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066760"/>
            <a:ext cx="41148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555555"/>
                </a:solidFill>
                <a:latin typeface="Arial Helvetica sans-serif"/>
              </a:rPr>
              <a:t>IT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软件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网络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信息科技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环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通标检测（</a:t>
            </a:r>
            <a:r>
              <a:rPr b="0" lang="en-US" sz="1800" spc="-1" strike="noStrike">
                <a:solidFill>
                  <a:srgbClr val="555555"/>
                </a:solidFill>
                <a:latin typeface="Arial Helvetica sans-serif"/>
              </a:rPr>
              <a:t>SGS</a:t>
            </a:r>
            <a:r>
              <a:rPr b="0" lang="en-US" sz="1800" spc="-1" strike="noStrike">
                <a:solidFill>
                  <a:srgbClr val="555555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世界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500</a:t>
            </a: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强）华东区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江苏东华测试技术股份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金蝶软件科技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徐州金蝶软件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台州元年软件技术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安庆市鼎维网络科技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北京市君合达科技有限公司成都分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山西联翔科技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北京东方博森科技发展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建德亿佳计算机信息工程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内蒙古万德信息技术有限责任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华腾软件系统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澜尔电子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北京捷科智诚科技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稳普智能科技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257800" y="2133720"/>
            <a:ext cx="3657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电讯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北京船舶通信导航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中国电信上海分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中国电信呼伦贝尔分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广西桂林铁通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山东东营联通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555555"/>
                </a:solidFill>
                <a:latin typeface="宋体"/>
              </a:rPr>
              <a:t>石油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宋体"/>
              </a:rPr>
              <a:t>矿产：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巨大矿业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中国石油乌鲁木齐输油气分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实华储运设备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山西煤炭运销集团公司销售分公司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典型客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28600" y="1447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峰信电话管理系统实用性强，字段可以自定义，在各行各业均有广泛的应用，以下为部分客户，排名不分先后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04920" y="2066760"/>
            <a:ext cx="40384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旅游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餐饮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娱乐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休闲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购物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网络商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雀巢（中国）有限公司长春分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珠海御温泉度假村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苏州金山丽格大酒店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海南海之缘旅行社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纳玛特康尔健健身（上海）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馨果汇电子商务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秋色贸易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湖北十堰车桥大酒店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新食网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九江蓝天旅行社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浦东跃达大酒店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扬州富春大酒店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陕西神木青年旅行社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扬州佳宾旅游用品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华联超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724280" y="2133720"/>
            <a:ext cx="41911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机械设备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通用零部件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加工制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东芝电梯上海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永固集团股份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天津市星望广达科学仪器技术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哈尔滨华利机械设备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成都成钢梅塞尔气体产品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顺德锐马刀具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工控国际贸易有限公司</a:t>
            </a:r>
            <a:br>
              <a:rPr sz="1800"/>
            </a:b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物流 快递 运输 票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上海永哲快递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上海蓝坊快递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广州市新佳瑞物流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上海荣飞汽车运输服务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浙商航空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山东鹏飞航空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</a:rPr>
              <a:t>郑州新郑国际机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典型客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28600" y="1447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峰信电话管理系统实用性强，字段可以自定义，在各行各业均有广泛的应用，以下为部分客户，排名不分先后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4920" y="2066760"/>
            <a:ext cx="4800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医疗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美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建德市第三人民医院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绍兴市人民医院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武汉华夏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西安医学院附属医院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岳阳世纪男科医院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上海复丽医疗美容门诊部</a:t>
            </a:r>
            <a:br>
              <a:rPr sz="1800"/>
            </a:b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城建 房产 建材 装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第一太平洋戴维斯物业顾问（上海）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沈阳金竹物业管理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厦门住总物业管理公司黄山分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爱康管业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知贤装饰设计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关镇铨装潢设计工程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永乐楼宇设备销售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清远市广州后花园有限公司</a:t>
            </a:r>
            <a:r>
              <a:rPr b="0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257800" y="2133720"/>
            <a:ext cx="365760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广告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</a:rPr>
              <a:t> </a:t>
            </a: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传媒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车界（上海）广告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赛博展览广告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源捷展览（深圳）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广州恺辰广告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子午线会展服务有限公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555555"/>
                </a:solidFill>
                <a:latin typeface="Arial Helvetica sans-serif"/>
                <a:ea typeface="Times New Roman"/>
              </a:rPr>
              <a:t>其他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深圳市南护胶木厂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上海睿东工贸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杭州美盛红外光电技术有限公司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常熟市辐射技术开发应用研究所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宣城市敬亭山弘愿寺</a:t>
            </a:r>
            <a:br>
              <a:rPr sz="1800"/>
            </a:br>
            <a:r>
              <a:rPr b="0" lang="zh-CN" sz="1800" spc="-1" strike="noStrike">
                <a:solidFill>
                  <a:srgbClr val="555555"/>
                </a:solidFill>
                <a:latin typeface="宋体"/>
              </a:rPr>
              <a:t>苏州玛斯特帆船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838080" y="1295280"/>
            <a:ext cx="73915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如果您想更详细了解峰信电话管理系统，您可以观看我们的演示视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www.56.com/u80/v_NTg1OTgxMjU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还可以下载我们的演示软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www.eachec.com/Upload/ysb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90720" y="3733920"/>
            <a:ext cx="7086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海艾家电子商务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021-33199059  4008169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phons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邮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@phons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:43526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123920" y="1295280"/>
            <a:ext cx="6877080" cy="46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产品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2720" y="1700280"/>
            <a:ext cx="81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峰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管理系统是一款创新型的产品，将办公最常用的电话和电脑结合起来，组成一个简单的呼叫中心。可以实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电话呼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呼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弹屏、电话录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通话报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客户关系管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业务记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短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日程提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等高端系统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C:\Documents and Settings\Owner\桌面\gg.jpg"/>
          <p:cNvPicPr/>
          <p:nvPr/>
        </p:nvPicPr>
        <p:blipFill>
          <a:blip r:embed="rId1"/>
          <a:stretch/>
        </p:blipFill>
        <p:spPr>
          <a:xfrm>
            <a:off x="533520" y="2666880"/>
            <a:ext cx="8305560" cy="39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80880" y="1523880"/>
          <a:ext cx="8280360" cy="4668840"/>
        </p:xfrm>
        <a:graphic>
          <a:graphicData uri="http://schemas.openxmlformats.org/drawingml/2006/table">
            <a:tbl>
              <a:tblPr/>
              <a:tblGrid>
                <a:gridCol w="1219320"/>
                <a:gridCol w="2163600"/>
                <a:gridCol w="2560680"/>
                <a:gridCol w="2336760"/>
              </a:tblGrid>
              <a:tr h="39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比较内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传统录音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峰信电话管理系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专业呼叫中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46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系统结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简单，不需要专用服务器，普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即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简单，不需要专用服务器，普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即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复杂，需要专用服务器及其它专用设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51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现功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单一，只能录音和查询通话记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比较丰富，可以实现一般办公常用功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齐全，且可灵活定制个性化业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操作系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基于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开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基于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开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UX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系统或封闭系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管理维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简单，无需专业人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简单，无需专业人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复杂，需要专业技术人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现分布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模拟线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数字线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系统容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小，一般不超过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建议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路及以下客户使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通过级联，座席可以上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适合用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小型且只要有录音和通话记录即可的用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小型，有一定功能需求，但不需要全部呼叫中心功能的用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型，大型，对呼叫中心要求比较高的用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51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附加业务的灵活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可附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预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接口和开发接口，方便二次开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，增加相关模块即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37"/>
          <p:cNvSpPr/>
          <p:nvPr/>
        </p:nvSpPr>
        <p:spPr>
          <a:xfrm>
            <a:off x="914400" y="914400"/>
            <a:ext cx="7162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录音卡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Arial"/>
              </a:rPr>
              <a:t>、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峰信电话管理系统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Arial"/>
              </a:rPr>
              <a:t>与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IP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专业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Arial"/>
              </a:rPr>
              <a:t>呼叫中心比较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1676520"/>
          <a:ext cx="8280360" cy="2565360"/>
        </p:xfrm>
        <a:graphic>
          <a:graphicData uri="http://schemas.openxmlformats.org/drawingml/2006/table">
            <a:tbl>
              <a:tblPr/>
              <a:tblGrid>
                <a:gridCol w="1219320"/>
                <a:gridCol w="2163600"/>
                <a:gridCol w="2560680"/>
                <a:gridCol w="233676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比较内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传统录音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峰信电话管理系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专业呼叫中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4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通信方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可通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传统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N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模式、短信，特别版可以电脑通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传统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TN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模式、 电脑通话、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传真、短信、视频、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、电话会议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54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升级扩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可扩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较容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较容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综合成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非常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26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施周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半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半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137"/>
          <p:cNvSpPr/>
          <p:nvPr/>
        </p:nvSpPr>
        <p:spPr>
          <a:xfrm>
            <a:off x="990720" y="990720"/>
            <a:ext cx="7162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录音卡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Arial"/>
              </a:rPr>
              <a:t>、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峰信电话管理系统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Arial"/>
              </a:rPr>
              <a:t>与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IP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专业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Arial"/>
              </a:rPr>
              <a:t>呼叫中心比较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上弧形箭头 3"/>
          <p:cNvSpPr/>
          <p:nvPr/>
        </p:nvSpPr>
        <p:spPr>
          <a:xfrm>
            <a:off x="919080" y="1353960"/>
            <a:ext cx="1862280" cy="714600"/>
          </a:xfrm>
          <a:custGeom>
            <a:avLst/>
            <a:gdLst>
              <a:gd name="textAreaLeft" fmla="*/ 398160 w 1862280"/>
              <a:gd name="textAreaRight" fmla="*/ 1374480 w 186228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3" hR="21600" stAng="10800000" swAng="5400000"/>
                <a:lnTo>
                  <a:pt x="11319" y="0"/>
                </a:lnTo>
                <a:arcTo wR="9243" hR="21600" stAng="-5400000" swAng="3533546"/>
                <a:lnTo>
                  <a:pt x="21307" y="16200"/>
                </a:lnTo>
                <a:lnTo>
                  <a:pt x="19523" y="21600"/>
                </a:lnTo>
                <a:lnTo>
                  <a:pt x="17153" y="16200"/>
                </a:lnTo>
                <a:lnTo>
                  <a:pt x="18192" y="16200"/>
                </a:lnTo>
                <a:arcTo wR="9243" hR="21600" stAng="-1866454" swAng="-3367421"/>
                <a:lnTo>
                  <a:pt x="10281" y="137"/>
                </a:lnTo>
                <a:arcTo wR="9243" hR="21600" stAng="-5566125" swAng="-5233875"/>
                <a:close/>
              </a:path>
              <a:path fill="darkenLess" w="21600" h="21600">
                <a:moveTo>
                  <a:pt x="0" y="21600"/>
                </a:moveTo>
                <a:arcTo wR="9243" hR="21600" stAng="10800000" swAng="5400000"/>
                <a:lnTo>
                  <a:pt x="9243" y="0"/>
                </a:lnTo>
                <a:arcTo wR="9243" hR="21600" stAng="-5400000" swAng="166125"/>
                <a:lnTo>
                  <a:pt x="10281" y="137"/>
                </a:lnTo>
                <a:arcTo wR="9243" hR="21600" stAng="-5566125" swAng="-523387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上弧形箭头 4"/>
          <p:cNvSpPr/>
          <p:nvPr/>
        </p:nvSpPr>
        <p:spPr>
          <a:xfrm>
            <a:off x="2781360" y="1353960"/>
            <a:ext cx="1861920" cy="714600"/>
          </a:xfrm>
          <a:custGeom>
            <a:avLst/>
            <a:gdLst>
              <a:gd name="textAreaLeft" fmla="*/ 398160 w 1861920"/>
              <a:gd name="textAreaRight" fmla="*/ 1374120 w 186192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3" hR="21600" stAng="10800000" swAng="5400000"/>
                <a:lnTo>
                  <a:pt x="11319" y="0"/>
                </a:lnTo>
                <a:arcTo wR="9243" hR="21600" stAng="-5400000" swAng="3533546"/>
                <a:lnTo>
                  <a:pt x="21307" y="16200"/>
                </a:lnTo>
                <a:lnTo>
                  <a:pt x="19523" y="21600"/>
                </a:lnTo>
                <a:lnTo>
                  <a:pt x="17153" y="16200"/>
                </a:lnTo>
                <a:lnTo>
                  <a:pt x="18192" y="16200"/>
                </a:lnTo>
                <a:arcTo wR="9243" hR="21600" stAng="-1866454" swAng="-3367421"/>
                <a:lnTo>
                  <a:pt x="10281" y="137"/>
                </a:lnTo>
                <a:arcTo wR="9243" hR="21600" stAng="-5566125" swAng="-5233875"/>
                <a:close/>
              </a:path>
              <a:path fill="darkenLess" w="21600" h="21600">
                <a:moveTo>
                  <a:pt x="0" y="21600"/>
                </a:moveTo>
                <a:arcTo wR="9243" hR="21600" stAng="10800000" swAng="5400000"/>
                <a:lnTo>
                  <a:pt x="9243" y="0"/>
                </a:lnTo>
                <a:arcTo wR="9243" hR="21600" stAng="-5400000" swAng="166125"/>
                <a:lnTo>
                  <a:pt x="10281" y="137"/>
                </a:lnTo>
                <a:arcTo wR="9243" hR="21600" stAng="-5566125" swAng="-523387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上弧形箭头 5"/>
          <p:cNvSpPr/>
          <p:nvPr/>
        </p:nvSpPr>
        <p:spPr>
          <a:xfrm>
            <a:off x="4643280" y="1353960"/>
            <a:ext cx="1862280" cy="714600"/>
          </a:xfrm>
          <a:custGeom>
            <a:avLst/>
            <a:gdLst>
              <a:gd name="textAreaLeft" fmla="*/ 398160 w 1862280"/>
              <a:gd name="textAreaRight" fmla="*/ 1374480 w 186228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3" hR="21600" stAng="10800000" swAng="5400000"/>
                <a:lnTo>
                  <a:pt x="11319" y="0"/>
                </a:lnTo>
                <a:arcTo wR="9243" hR="21600" stAng="-5400000" swAng="3533546"/>
                <a:lnTo>
                  <a:pt x="21307" y="16200"/>
                </a:lnTo>
                <a:lnTo>
                  <a:pt x="19523" y="21600"/>
                </a:lnTo>
                <a:lnTo>
                  <a:pt x="17153" y="16200"/>
                </a:lnTo>
                <a:lnTo>
                  <a:pt x="18192" y="16200"/>
                </a:lnTo>
                <a:arcTo wR="9243" hR="21600" stAng="-1866454" swAng="-3367421"/>
                <a:lnTo>
                  <a:pt x="10281" y="137"/>
                </a:lnTo>
                <a:arcTo wR="9243" hR="21600" stAng="-5566125" swAng="-5233875"/>
                <a:close/>
              </a:path>
              <a:path fill="darkenLess" w="21600" h="21600">
                <a:moveTo>
                  <a:pt x="0" y="21600"/>
                </a:moveTo>
                <a:arcTo wR="9243" hR="21600" stAng="10800000" swAng="5400000"/>
                <a:lnTo>
                  <a:pt x="9243" y="0"/>
                </a:lnTo>
                <a:arcTo wR="9243" hR="21600" stAng="-5400000" swAng="166125"/>
                <a:lnTo>
                  <a:pt x="10281" y="137"/>
                </a:lnTo>
                <a:arcTo wR="9243" hR="21600" stAng="-5566125" swAng="-523387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上弧形箭头 6"/>
          <p:cNvSpPr/>
          <p:nvPr/>
        </p:nvSpPr>
        <p:spPr>
          <a:xfrm>
            <a:off x="6505560" y="1353960"/>
            <a:ext cx="1863720" cy="714600"/>
          </a:xfrm>
          <a:custGeom>
            <a:avLst/>
            <a:gdLst>
              <a:gd name="textAreaLeft" fmla="*/ 398520 w 1863720"/>
              <a:gd name="textAreaRight" fmla="*/ 1375560 w 186372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3" hR="21600" stAng="10800000" swAng="5400000"/>
                <a:lnTo>
                  <a:pt x="11319" y="0"/>
                </a:lnTo>
                <a:arcTo wR="9243" hR="21600" stAng="-5400000" swAng="3533546"/>
                <a:lnTo>
                  <a:pt x="21307" y="16200"/>
                </a:lnTo>
                <a:lnTo>
                  <a:pt x="19523" y="21600"/>
                </a:lnTo>
                <a:lnTo>
                  <a:pt x="17153" y="16200"/>
                </a:lnTo>
                <a:lnTo>
                  <a:pt x="18192" y="16200"/>
                </a:lnTo>
                <a:arcTo wR="9243" hR="21600" stAng="-1866454" swAng="-3367421"/>
                <a:lnTo>
                  <a:pt x="10281" y="137"/>
                </a:lnTo>
                <a:arcTo wR="9243" hR="21600" stAng="-5566125" swAng="-5233875"/>
                <a:close/>
              </a:path>
              <a:path fill="darkenLess" w="21600" h="21600">
                <a:moveTo>
                  <a:pt x="0" y="21600"/>
                </a:moveTo>
                <a:arcTo wR="9243" hR="21600" stAng="10800000" swAng="5400000"/>
                <a:lnTo>
                  <a:pt x="9243" y="0"/>
                </a:lnTo>
                <a:arcTo wR="9243" hR="21600" stAng="-5400000" swAng="166125"/>
                <a:lnTo>
                  <a:pt x="10281" y="137"/>
                </a:lnTo>
                <a:arcTo wR="9243" hR="21600" stAng="-5566125" swAng="-523387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990720" y="2284560"/>
            <a:ext cx="1574640" cy="357804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呼出效率低下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手动拨号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人工分配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人工统计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客户信息分散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重复难以集中维护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放下电话就不知道和客户沟通了什么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翻了半天名片夹才找到客户电话，甚至弄丢了客户电话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>
            <a:off x="2852640" y="2284560"/>
            <a:ext cx="1576440" cy="357804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客户来电不知道是谁，经常张冠李戴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边打电话边在电脑海量的文件中找客户的资料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客户耍赖，苦于没有录音证据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复询问客户资料，客户都不耐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4786200" y="2284560"/>
            <a:ext cx="1576440" cy="357804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客户跟踪不及时，经常丢失客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知道客户都跟踪到什么进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为管理者，不知道员工每天电话是工作还是聊天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法对电话量做一个全面的统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6649920" y="2284560"/>
            <a:ext cx="1575000" cy="357804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感觉到呼叫中心的重要性，但价格实在太高昂，再说很多呼叫中心的功能也用不上，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个坐席建呼叫中心也不现实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那么，您需要峰信电话管理系统来帮忙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您是否有如下问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系统拓扑图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网络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D:\phonsen\连接示意图\4路连接图副本.jpg"/>
          <p:cNvPicPr/>
          <p:nvPr/>
        </p:nvPicPr>
        <p:blipFill>
          <a:blip r:embed="rId1"/>
          <a:stretch/>
        </p:blipFill>
        <p:spPr>
          <a:xfrm>
            <a:off x="139680" y="1574640"/>
            <a:ext cx="886464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核心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3168000" y="2193840"/>
            <a:ext cx="3196080" cy="2888640"/>
            <a:chOff x="3168000" y="2193840"/>
            <a:chExt cx="3196080" cy="2888640"/>
          </a:xfrm>
        </p:grpSpPr>
        <p:grpSp>
          <p:nvGrpSpPr>
            <p:cNvPr id="134" name="Group 3"/>
            <p:cNvGrpSpPr/>
            <p:nvPr/>
          </p:nvGrpSpPr>
          <p:grpSpPr>
            <a:xfrm>
              <a:off x="3168000" y="2193840"/>
              <a:ext cx="3196080" cy="2888640"/>
              <a:chOff x="3168000" y="2193840"/>
              <a:chExt cx="3196080" cy="2888640"/>
            </a:xfrm>
          </p:grpSpPr>
          <p:sp>
            <p:nvSpPr>
              <p:cNvPr id="135" name="AutoShape 4"/>
              <p:cNvSpPr/>
              <p:nvPr/>
            </p:nvSpPr>
            <p:spPr>
              <a:xfrm flipH="1" rot="16200000">
                <a:off x="3087000" y="3296880"/>
                <a:ext cx="489600" cy="328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5"/>
              <p:cNvSpPr/>
              <p:nvPr/>
            </p:nvSpPr>
            <p:spPr>
              <a:xfrm flipH="1" rot="5400000">
                <a:off x="5954400" y="3244320"/>
                <a:ext cx="489960" cy="328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6"/>
              <p:cNvSpPr/>
              <p:nvPr/>
            </p:nvSpPr>
            <p:spPr>
              <a:xfrm flipH="1" rot="10800000">
                <a:off x="4526280" y="4755960"/>
                <a:ext cx="490320" cy="3265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>
                <a:off x="3495960" y="2193840"/>
                <a:ext cx="2573280" cy="2561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8"/>
              <p:cNvSpPr/>
              <p:nvPr/>
            </p:nvSpPr>
            <p:spPr>
              <a:xfrm>
                <a:off x="3641760" y="2338200"/>
                <a:ext cx="2278080" cy="226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1a1a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>
                <a:off x="3775320" y="2472840"/>
                <a:ext cx="2009520" cy="20041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fefefe"/>
                  </a:gs>
                  <a:gs pos="100000">
                    <a:srgbClr val="0099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3775320" y="2472840"/>
                <a:ext cx="2009520" cy="2004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3908520" y="2604240"/>
                <a:ext cx="1746360" cy="17409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005252"/>
                  </a:gs>
                  <a:gs pos="100000">
                    <a:srgbClr val="0099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3908520" y="2604240"/>
                <a:ext cx="1746360" cy="174096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13"/>
            <p:cNvSpPr/>
            <p:nvPr/>
          </p:nvSpPr>
          <p:spPr>
            <a:xfrm>
              <a:off x="4145400" y="2879640"/>
              <a:ext cx="127800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2400" spc="-1" strike="noStrike">
                  <a:solidFill>
                    <a:srgbClr val="020a53"/>
                  </a:solidFill>
                  <a:latin typeface="Arial"/>
                </a:rPr>
                <a:t>峰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2400" spc="-1" strike="noStrike">
                  <a:solidFill>
                    <a:srgbClr val="020a53"/>
                  </a:solidFill>
                  <a:latin typeface="Arial"/>
                </a:rPr>
                <a:t>电话管理系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14"/>
          <p:cNvSpPr/>
          <p:nvPr/>
        </p:nvSpPr>
        <p:spPr>
          <a:xfrm>
            <a:off x="2197080" y="5518080"/>
            <a:ext cx="511344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d9415a"/>
                </a:solidFill>
                <a:latin typeface="Verdana"/>
              </a:rPr>
              <a:t>其他多种实用的功能如：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生日提醒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知识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电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拨号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通话监控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通话备注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导入导出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d9415a"/>
                </a:solidFill>
                <a:latin typeface="Verdana"/>
              </a:rPr>
              <a:t>WEB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对接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6516720" y="4797360"/>
            <a:ext cx="1905120" cy="609840"/>
            <a:chOff x="6516720" y="4797360"/>
            <a:chExt cx="1905120" cy="609840"/>
          </a:xfrm>
        </p:grpSpPr>
        <p:sp>
          <p:nvSpPr>
            <p:cNvPr id="147" name="AutoShape 16"/>
            <p:cNvSpPr/>
            <p:nvPr/>
          </p:nvSpPr>
          <p:spPr>
            <a:xfrm>
              <a:off x="6516720" y="47973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7111080" y="5064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任务安排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8"/>
          <p:cNvGrpSpPr/>
          <p:nvPr/>
        </p:nvGrpSpPr>
        <p:grpSpPr>
          <a:xfrm>
            <a:off x="6516720" y="2708280"/>
            <a:ext cx="1905120" cy="609480"/>
            <a:chOff x="6516720" y="2708280"/>
            <a:chExt cx="1905120" cy="609480"/>
          </a:xfrm>
        </p:grpSpPr>
        <p:sp>
          <p:nvSpPr>
            <p:cNvPr id="150" name="AutoShape 19"/>
            <p:cNvSpPr/>
            <p:nvPr/>
          </p:nvSpPr>
          <p:spPr>
            <a:xfrm>
              <a:off x="6516720" y="27082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0"/>
            <p:cNvSpPr/>
            <p:nvPr/>
          </p:nvSpPr>
          <p:spPr>
            <a:xfrm>
              <a:off x="7150680" y="28987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资料共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1"/>
          <p:cNvGrpSpPr/>
          <p:nvPr/>
        </p:nvGrpSpPr>
        <p:grpSpPr>
          <a:xfrm>
            <a:off x="6516720" y="2060640"/>
            <a:ext cx="1903320" cy="608040"/>
            <a:chOff x="6516720" y="2060640"/>
            <a:chExt cx="1903320" cy="608040"/>
          </a:xfrm>
        </p:grpSpPr>
        <p:sp>
          <p:nvSpPr>
            <p:cNvPr id="153" name="AutoShape 22"/>
            <p:cNvSpPr/>
            <p:nvPr/>
          </p:nvSpPr>
          <p:spPr>
            <a:xfrm>
              <a:off x="6516720" y="2060640"/>
              <a:ext cx="1903320" cy="608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3"/>
            <p:cNvSpPr/>
            <p:nvPr/>
          </p:nvSpPr>
          <p:spPr>
            <a:xfrm>
              <a:off x="7089120" y="22629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坐席管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4"/>
          <p:cNvGrpSpPr/>
          <p:nvPr/>
        </p:nvGrpSpPr>
        <p:grpSpPr>
          <a:xfrm>
            <a:off x="6516720" y="4149720"/>
            <a:ext cx="1903320" cy="608040"/>
            <a:chOff x="6516720" y="4149720"/>
            <a:chExt cx="1903320" cy="608040"/>
          </a:xfrm>
        </p:grpSpPr>
        <p:sp>
          <p:nvSpPr>
            <p:cNvPr id="156" name="AutoShape 25"/>
            <p:cNvSpPr/>
            <p:nvPr/>
          </p:nvSpPr>
          <p:spPr>
            <a:xfrm>
              <a:off x="6516720" y="4149720"/>
              <a:ext cx="1903320" cy="608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6"/>
            <p:cNvSpPr/>
            <p:nvPr/>
          </p:nvSpPr>
          <p:spPr>
            <a:xfrm>
              <a:off x="7101720" y="4392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统计报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7"/>
          <p:cNvGrpSpPr/>
          <p:nvPr/>
        </p:nvGrpSpPr>
        <p:grpSpPr>
          <a:xfrm>
            <a:off x="6516720" y="3429000"/>
            <a:ext cx="1905120" cy="609480"/>
            <a:chOff x="6516720" y="3429000"/>
            <a:chExt cx="1905120" cy="609480"/>
          </a:xfrm>
        </p:grpSpPr>
        <p:sp>
          <p:nvSpPr>
            <p:cNvPr id="159" name="AutoShape 28"/>
            <p:cNvSpPr/>
            <p:nvPr/>
          </p:nvSpPr>
          <p:spPr>
            <a:xfrm>
              <a:off x="6516720" y="3429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9"/>
            <p:cNvSpPr/>
            <p:nvPr/>
          </p:nvSpPr>
          <p:spPr>
            <a:xfrm>
              <a:off x="7090200" y="3632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业务记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0"/>
          <p:cNvGrpSpPr/>
          <p:nvPr/>
        </p:nvGrpSpPr>
        <p:grpSpPr>
          <a:xfrm>
            <a:off x="1187280" y="4726080"/>
            <a:ext cx="1905120" cy="609480"/>
            <a:chOff x="1187280" y="4726080"/>
            <a:chExt cx="1905120" cy="609480"/>
          </a:xfrm>
        </p:grpSpPr>
        <p:sp>
          <p:nvSpPr>
            <p:cNvPr id="162" name="AutoShape 31"/>
            <p:cNvSpPr/>
            <p:nvPr/>
          </p:nvSpPr>
          <p:spPr>
            <a:xfrm>
              <a:off x="1187280" y="47260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32"/>
            <p:cNvSpPr/>
            <p:nvPr/>
          </p:nvSpPr>
          <p:spPr>
            <a:xfrm>
              <a:off x="1903680" y="49928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短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3"/>
          <p:cNvGrpSpPr/>
          <p:nvPr/>
        </p:nvGrpSpPr>
        <p:grpSpPr>
          <a:xfrm>
            <a:off x="1187280" y="2637000"/>
            <a:ext cx="1905120" cy="609480"/>
            <a:chOff x="1187280" y="2637000"/>
            <a:chExt cx="1905120" cy="609480"/>
          </a:xfrm>
        </p:grpSpPr>
        <p:sp>
          <p:nvSpPr>
            <p:cNvPr id="165" name="AutoShape 34"/>
            <p:cNvSpPr/>
            <p:nvPr/>
          </p:nvSpPr>
          <p:spPr>
            <a:xfrm>
              <a:off x="1187280" y="2637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5"/>
            <p:cNvSpPr/>
            <p:nvPr/>
          </p:nvSpPr>
          <p:spPr>
            <a:xfrm>
              <a:off x="1821240" y="282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电话录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1187280" y="1989000"/>
            <a:ext cx="1905120" cy="609840"/>
            <a:chOff x="1187280" y="1989000"/>
            <a:chExt cx="1905120" cy="609840"/>
          </a:xfrm>
        </p:grpSpPr>
        <p:sp>
          <p:nvSpPr>
            <p:cNvPr id="168" name="AutoShape 37"/>
            <p:cNvSpPr/>
            <p:nvPr/>
          </p:nvSpPr>
          <p:spPr>
            <a:xfrm>
              <a:off x="1187280" y="19890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8"/>
            <p:cNvSpPr/>
            <p:nvPr/>
          </p:nvSpPr>
          <p:spPr>
            <a:xfrm>
              <a:off x="1701360" y="219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来去电弹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1187280" y="4076640"/>
            <a:ext cx="1905120" cy="609840"/>
            <a:chOff x="1187280" y="4076640"/>
            <a:chExt cx="1905120" cy="609840"/>
          </a:xfrm>
        </p:grpSpPr>
        <p:sp>
          <p:nvSpPr>
            <p:cNvPr id="171" name="AutoShape 40"/>
            <p:cNvSpPr/>
            <p:nvPr/>
          </p:nvSpPr>
          <p:spPr>
            <a:xfrm>
              <a:off x="1187280" y="407664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1"/>
            <p:cNvSpPr/>
            <p:nvPr/>
          </p:nvSpPr>
          <p:spPr>
            <a:xfrm>
              <a:off x="1773720" y="43196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通话记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2"/>
          <p:cNvGrpSpPr/>
          <p:nvPr/>
        </p:nvGrpSpPr>
        <p:grpSpPr>
          <a:xfrm>
            <a:off x="1187280" y="3357720"/>
            <a:ext cx="1905120" cy="609480"/>
            <a:chOff x="1187280" y="3357720"/>
            <a:chExt cx="1905120" cy="609480"/>
          </a:xfrm>
        </p:grpSpPr>
        <p:sp>
          <p:nvSpPr>
            <p:cNvPr id="174" name="AutoShape 43"/>
            <p:cNvSpPr/>
            <p:nvPr/>
          </p:nvSpPr>
          <p:spPr>
            <a:xfrm>
              <a:off x="1187280" y="33577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44"/>
            <p:cNvSpPr/>
            <p:nvPr/>
          </p:nvSpPr>
          <p:spPr>
            <a:xfrm>
              <a:off x="1759320" y="3560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客户管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80880" y="1143000"/>
          <a:ext cx="8280360" cy="5178600"/>
        </p:xfrm>
        <a:graphic>
          <a:graphicData uri="http://schemas.openxmlformats.org/drawingml/2006/table">
            <a:tbl>
              <a:tblPr/>
              <a:tblGrid>
                <a:gridCol w="1371600"/>
                <a:gridCol w="2895840"/>
                <a:gridCol w="2895480"/>
                <a:gridCol w="1117440"/>
              </a:tblGrid>
              <a:tr h="37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比较内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大众单机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大众网络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特别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0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来去电弹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5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坐席管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电话录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5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资料共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客户管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业务记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通话记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统计报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短信收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任务安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电脑拨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5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来电留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耳麦通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支持电话门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2/3/4/5/6/8/16/24/32/48/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2/3/4/5/6/8/16/24/32/48 / 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37"/>
          <p:cNvSpPr/>
          <p:nvPr/>
        </p:nvSpPr>
        <p:spPr>
          <a:xfrm>
            <a:off x="1905120" y="685800"/>
            <a:ext cx="5867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峰信电话管理系统不同版本主要功能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8"/>
          <p:cNvSpPr/>
          <p:nvPr/>
        </p:nvSpPr>
        <p:spPr>
          <a:xfrm>
            <a:off x="4114800" y="6384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有此功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无此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19:04Z</dcterms:created>
  <dc:creator>Nigel</dc:creator>
  <dc:description/>
  <dc:language>en-US</dc:language>
  <cp:lastModifiedBy>微软用户</cp:lastModifiedBy>
  <cp:lastPrinted>1899-12-30T00:00:00Z</cp:lastPrinted>
  <dcterms:modified xsi:type="dcterms:W3CDTF">2012-03-19T07:20:18Z</dcterms:modified>
  <cp:revision>58</cp:revision>
  <dc:subject/>
  <dc:title>EA系列一体化IP分布式呼叫中心产品 功能详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