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934-290E-4849-8053-1A28D765C2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74E-EAFF-49BE-BC7E-BD42374A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01F-E7F8-4387-9976-980C292C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F2C-79D3-477A-989B-094A02FC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5CF-411E-445E-A591-53E2642C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F96-905F-42C8-8C7D-2F4375A4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9FC-2C39-4109-92F5-57DF524D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C53-71EF-472E-880B-A8E6A5B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CBC-0019-4DED-B916-2562A785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51A-FF72-4961-A5EC-CF394950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62C-4672-446D-A9DA-328A5D8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662-2985-4A08-B9C7-ADE8448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33D-492D-4418-A755-40AA654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9392-62AE-4A3F-899C-975186E14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特等奖 海南双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530400">
            <a:off x="1080" y="867960"/>
            <a:ext cx="3048120" cy="112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80960" y="533520"/>
            <a:ext cx="20574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 rot="21531600">
            <a:off x="7086240" y="304560"/>
            <a:ext cx="1676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5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