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3BED-68C1-4845-8F48-90228F362E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092-247C-4068-BA4D-5035F00E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530-DEB7-4F84-B935-B111367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4AE-B68D-4584-8F21-4419877A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D4C-3BC7-4763-9792-7E0FCED3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B3D-738B-4734-BABD-EE50352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F60-F7D0-4791-AB5F-8BDAC8DE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79D-0ABD-4545-9209-C8F0F267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712-B86A-4CC9-B853-7BAFC01D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924-D29C-425A-81F0-38F6909C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B1C-6078-44B3-A053-F8B1CD3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20D-7AC6-4DC7-83F4-D1DE7E1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A41-68D8-4C54-A581-6F2D6D2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FE5B-6513-4491-BFDC-C0BDB094D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380880"/>
            <a:ext cx="1600200" cy="106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21533400">
            <a:off x="0" y="4648320"/>
            <a:ext cx="2133720" cy="71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75833 -0.65555 E"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04:24:55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