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7AC4F-62B0-426F-A030-79E928A2FB8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空白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23C9-D8DB-47A6-9D4F-B9DD3C240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5BEF-901F-4F1F-8064-6F77D4958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F764-8C76-4401-805F-28378BFC1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C02D-1EE3-40AE-B450-C97642C7D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0568-80B5-4DC5-B4FF-689A4E7CF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6A67-73B2-4004-B488-C5E86FD58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919D-EF0F-45A5-852F-FCEE57F54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1417-E022-4094-BF7D-FA359DEEC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4F6A-50F2-4DA3-A8D8-1DB21403C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971A-F339-4F78-BB4F-3E2CF4EE7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0681-D995-4922-A86E-7519897F3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634F-A2CB-45F6-B27B-711FBA4B8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0000"/>
            </a:gs>
            <a:gs pos="50000">
              <a:srgbClr val="ff0000"/>
            </a:gs>
            <a:gs pos="100000">
              <a:srgbClr val="c9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85E44-3661-49E1-B1B7-4DA6D8F15E7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0000"/>
            </a:gs>
            <a:gs pos="50000">
              <a:srgbClr val="ff0000"/>
            </a:gs>
            <a:gs pos="100000">
              <a:srgbClr val="c9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一等奖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0000"/>
            </a:gs>
            <a:gs pos="50000">
              <a:srgbClr val="ff0000"/>
            </a:gs>
            <a:gs pos="100000">
              <a:srgbClr val="c9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ctr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张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2:56:11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