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  <p:custShowLst>
    <p:custShow name="cjZhu" id="0">
      <p:sldLst>
        <p:sld r:id="rId5"/>
      </p:sldLst>
    </p:custShow>
    <p:custShow name="cjJX1" id="1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D5EE-2254-4ADD-8296-C2D0C836C73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A615-6E57-413E-AB29-F2B1B23D5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145A-56DB-4ECA-8A1D-F149C5AA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AAD4-FA8E-41D6-B3F3-E178C0E0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6F0D-3265-4B7C-B76B-72E6D27F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708C-D8D0-4BB6-85D6-E937FC52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D5E1-A19C-4BCC-A89C-E5072487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9DE4-B44A-483D-8E73-BC56239C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D67A-8238-4A00-99B2-CFAC4554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84FA-4DEA-41C4-A482-C53CDE12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217C-BF56-4F93-B5DA-C2335C6A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2420-D448-4A7B-92E4-5CCD45EA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9890-8C7E-49BC-88AE-FF842DE0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2517-0108-45F1-B339-B60FDE5E98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八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2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九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2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十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2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1905120"/>
            <a:ext cx="7696080" cy="3276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抽奖准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一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二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2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三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2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四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2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五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2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六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七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2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7T00:44:51Z</dcterms:modified>
  <cp:revision>9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