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CB1F-B8DE-4CBE-B86F-E8BDB95CF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CE08-432E-4807-89DE-5824FF50A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6B0F-4D36-46D4-93ED-4FA8A6BFC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9F51-2957-409E-9580-645FB8465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4FF9-8ECD-493F-BA2B-CEA26199C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B2A2-094A-4E51-817A-4A25C5394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2617-1002-4134-A368-B15FE5721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8119-FD7A-41BC-B3F2-0905E1304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782A-2C35-477A-BB7C-704A2FE9D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9C72-917B-446C-83D3-1C86EC84F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ADBE-4727-4D3C-A8A8-47FB5F2FC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8926-1F57-4C36-874E-DC054825A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24E32-F620-4B14-991A-FD526CDB1C0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1600200"/>
            <a:ext cx="7924680" cy="388620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ffff"/>
                </a:solidFill>
                <a:latin typeface="Arial"/>
                <a:ea typeface="微软雅黑"/>
              </a:rPr>
              <a:t>八等奖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ffff"/>
                </a:solidFill>
                <a:latin typeface="Arial"/>
                <a:ea typeface="微软雅黑"/>
              </a:rPr>
              <a:t>中奖名单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533520" y="380880"/>
            <a:ext cx="8001000" cy="60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张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行易软件 http://www.ExeSoft.cn</cp:lastModifiedBy>
  <dcterms:modified xsi:type="dcterms:W3CDTF">2017-01-09T13:00:59Z</dcterms:modified>
  <cp:revision>2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