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68EA-2BFB-47EA-B446-8218006417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舞蹈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美好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合同部员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小品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银行的一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张三、李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抽奖环节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二等奖 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吃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抽奖环节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一等奖  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大为、王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322-2734-4C75-A71B-3E2906AD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118-87A8-4752-A0A3-0409512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47F-1E06-4308-B2C9-F5D7B1A1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BEB-8B5A-498A-BD30-D7B5000F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6F3-4A75-4B12-B6C7-D8F615A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FA1-2EB5-4047-A6CC-1AB184E1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EBF-DDB1-49D3-B147-AFF1F524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990-7045-4FE9-8958-378544C7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F41-8394-4A80-9219-B7878AB7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CAB-BABF-4A45-B836-93AFC417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6C7-3C92-4EB0-92FF-51FA8B8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331-93EE-4470-9227-3B985C29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6BF6-657D-45D4-AC95-9D6E5681E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1981080"/>
            <a:ext cx="9144000" cy="2819520"/>
            <a:chOff x="0" y="1981080"/>
            <a:chExt cx="9144000" cy="2819520"/>
          </a:xfrm>
        </p:grpSpPr>
        <p:sp>
          <p:nvSpPr>
            <p:cNvPr id="50" name=""/>
            <p:cNvSpPr/>
            <p:nvPr/>
          </p:nvSpPr>
          <p:spPr>
            <a:xfrm>
              <a:off x="0" y="1981080"/>
              <a:ext cx="9144000" cy="281952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中国银行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12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年综艺晚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暨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幸运大抽奖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>
              <a:alphaModFix amt="80000"/>
            </a:blip>
            <a:stretch/>
          </p:blipFill>
          <p:spPr>
            <a:xfrm>
              <a:off x="152280" y="2095560"/>
              <a:ext cx="14479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舞蹈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美好的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合同部员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小品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银行的一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张三、李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81080"/>
            <a:ext cx="9144000" cy="32767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抽奖环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二等奖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开奖嘉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员工代表 王正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哑剧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吃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王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81080"/>
            <a:ext cx="9144000" cy="32767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抽奖环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等奖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开奖嘉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客户代表 李玉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相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张大为、王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53:4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