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AFF-7184-47D7-803B-807C98A4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8EE-4E58-459C-98FC-92369F77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4E9-416F-4F29-95CD-35EF9BB5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CC3-D883-42A5-AA7A-175B6DDB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B75-DF43-448D-BF8F-9E70B1F1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2D92-741E-4F92-9C8E-574634F0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C851-227F-4396-B223-8DF8936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94DB-2B22-425E-B1DE-3910F5F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FC8C-D302-404E-B74B-E5DC96D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E5A8-41C2-441E-8B86-37A6543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2AF0-BD2B-4F69-A7F8-CCA63D15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603-B23F-40B9-8142-964EE1EC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0308-95C0-4611-8FA4-539D2B4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21B1-3868-4EDE-9309-EA17C61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8EB-F546-4CE9-9159-EBC28006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E2B4-AF36-491B-86F5-A90FA376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20BE-AEAA-4519-B35B-5FB0904E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9E21-4B03-45CC-A39B-4ADE7D1A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4DD1-9020-4191-AD9B-C24C4EAC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5059-190D-4020-8506-066BB4E9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AECA-89B0-43C2-BD07-C6B5B856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350E-E55D-4752-BD0E-834E2ED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F61-3D81-43FF-995E-E1FB70A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2E54-E97E-4560-8FFC-DD2725F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72EC6-32FE-404A-9255-85855D0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398E-536D-4C83-B37D-9F0A371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111A-9B99-4AAD-B813-B5C75708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0E95-46B1-471E-8567-FC57A21C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B920-122C-4C4E-9DF0-18F6FCBE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3260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67160" y="11304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9804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3260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67160" y="3765600"/>
            <a:ext cx="34610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C495-3FE3-4F5D-ADF5-82013EDA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715-693D-45C6-BCC1-189BCF2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C6D-1E6A-4975-BF9B-1CDD472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8040" y="152280"/>
            <a:ext cx="1074924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8B2-F483-47D5-AA1E-B81B1E5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BC4-6988-4F38-AE9F-A7DE140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6400" y="37656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E07-926B-4C98-A01E-98A1561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804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6400" y="1130400"/>
            <a:ext cx="524556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8040" y="3765600"/>
            <a:ext cx="107492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0D1-6B8E-434B-9D76-1F72EF7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12180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EDC4-DA70-42F5-B2C0-0A70FDB210BA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4680" y="0"/>
            <a:ext cx="121824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5722-7F67-414E-BA7C-6135771248CA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98040" y="1130400"/>
            <a:ext cx="107492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27000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55680" indent="-35568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5987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2055960" indent="-22716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2055960" indent="-227160">
              <a:lnSpc>
                <a:spcPct val="9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4143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E19F-134D-4E5B-8E2E-7FDBBDBC9A8F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39960" y="2100240"/>
            <a:ext cx="4923000" cy="180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标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439960" y="4206600"/>
            <a:ext cx="492300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单击此处添加副标题</a:t>
            </a:r>
            <a:endParaRPr b="0" lang="en-US" sz="1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8040" y="152280"/>
            <a:ext cx="1074924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8040" y="1117080"/>
            <a:ext cx="107492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14:05:06Z</dcterms:created>
  <dc:creator>Administrator</dc:creator>
  <dc:description/>
  <dc:language>en-US</dc:language>
  <cp:lastModifiedBy>Administrator</cp:lastModifiedBy>
  <dcterms:modified xsi:type="dcterms:W3CDTF">2016-06-29T03:23:28Z</dcterms:modified>
  <cp:revision>2</cp:revision>
  <dc:subject/>
  <dc:title>单击此处添加标题</dc:title>
</cp:coreProperties>
</file>