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ED07-85F8-4D02-9B8A-5C35EBCF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107492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98040" y="3765600"/>
            <a:ext cx="107492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D8AE-66A6-46FE-A227-DBF2AB5C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8040" y="37656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06400" y="37656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D0FB-A2BE-43D9-AD71-F4DB4A8F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32600" y="11304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67160" y="11304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98040" y="37656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32600" y="37656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67160" y="37656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9435-DC71-4D7A-8045-6EF77D5B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1CBE-777D-44F7-B1C5-6C13087DD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98040" y="1130400"/>
            <a:ext cx="107492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29CF-D2F6-4B00-B2D1-C65D4D9F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107492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8948-3F28-42CA-B045-619D985B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CEE9-2B08-45DD-B833-156481A2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3231-54AC-419D-82F9-15ED28A1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98040" y="152280"/>
            <a:ext cx="1074924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7DBD-DC49-4AE5-8A16-0E3C9150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8040" y="37656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8456-EEA6-4FE5-9E3F-C6C0E47B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98040" y="1130400"/>
            <a:ext cx="107492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19F5-5AC2-4F86-9738-7AB87F88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06400" y="37656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2C39-4CA8-435F-A2E4-8407B63D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98040" y="3765600"/>
            <a:ext cx="107492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B58D-7359-4E03-896A-E0B67FF8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107492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98040" y="3765600"/>
            <a:ext cx="107492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194E-0592-48E3-B926-D74D73DC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98040" y="37656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06400" y="37656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D510-B511-4353-822A-C62431266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32600" y="11304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67160" y="11304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98040" y="37656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32600" y="37656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67160" y="37656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FD55-1B2F-46FD-97B0-CFC54F31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FAE71-E0F8-4EE4-9838-2839A252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98040" y="1130400"/>
            <a:ext cx="107492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1FD9C-11FF-4BF9-B480-96C7DE40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107492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A3FCD-9B3E-463C-A672-50F29616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49E38-79BA-4329-8093-E156A05D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6EBF6-9A2B-4EE8-8CA4-C826C8FC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107492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E927-A8BE-44DA-8706-660DFF69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98040" y="152280"/>
            <a:ext cx="1074924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AC0F4-AC4C-458C-8FEC-9C12EA9F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98040" y="37656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ED0E9-5074-4E24-82B0-0C6A496D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06400" y="37656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F680D-882E-4CEA-832A-89882B39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98040" y="3765600"/>
            <a:ext cx="107492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C701F-8E3D-499E-8E32-80E1791A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107492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98040" y="3765600"/>
            <a:ext cx="107492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3BAF1-7453-4A1E-9E58-4EE2FD6B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98040" y="37656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06400" y="37656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74DA7-DBEE-4F65-B178-AF6810D35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32600" y="11304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67160" y="11304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98040" y="37656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32600" y="37656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67160" y="37656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191E6-54E5-4A80-8ED4-E3723B35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632D-A323-42F5-849D-E7E71FF2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B23F-D18E-4FA0-937B-79B2BAB5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98040" y="152280"/>
            <a:ext cx="1074924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D8DF-5828-4813-BD3D-E3C39C81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98040" y="37656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F554-894A-412C-A2F7-FD90212F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06400" y="37656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BB9C-9884-4ACD-A9D6-F75755BA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98040" y="3765600"/>
            <a:ext cx="107492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2993-9BC8-4CF4-8DBA-07B49E9F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12180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98040" y="1130400"/>
            <a:ext cx="107492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27000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SzPct val="50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355680" indent="-35568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Calibri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3" marL="1598760" indent="-22716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4" marL="2055960" indent="-22716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5" marL="2055960" indent="-227160">
              <a:lnSpc>
                <a:spcPct val="9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6" marL="2055960" indent="-227160">
              <a:lnSpc>
                <a:spcPct val="9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47C6-55F5-445C-A208-8F2C678A50E6}" type="slidenum"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8" descr=""/>
          <p:cNvPicPr/>
          <p:nvPr/>
        </p:nvPicPr>
        <p:blipFill>
          <a:blip r:embed="rId2"/>
          <a:stretch/>
        </p:blipFill>
        <p:spPr>
          <a:xfrm>
            <a:off x="4680" y="0"/>
            <a:ext cx="121824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698040" y="1130400"/>
            <a:ext cx="107492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27000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SzPct val="50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355680" indent="-35568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Calibri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3" marL="1598760" indent="-22716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4" marL="2055960" indent="-22716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5" marL="2055960" indent="-227160">
              <a:lnSpc>
                <a:spcPct val="9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6" marL="2055960" indent="-227160">
              <a:lnSpc>
                <a:spcPct val="9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5C0B-A28A-47E6-8152-2D88D36656F4}" type="slidenum"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98040" y="1130400"/>
            <a:ext cx="107492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27000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SzPct val="50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355680" indent="-35568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Calibri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3" marL="1598760" indent="-22716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4" marL="2055960" indent="-22716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5" marL="2055960" indent="-227160">
              <a:lnSpc>
                <a:spcPct val="9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6" marL="2055960" indent="-227160">
              <a:lnSpc>
                <a:spcPct val="9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FF00-BD8D-4E43-8FC5-780BD20024DD}" type="slidenum"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439960" y="2100240"/>
            <a:ext cx="4923000" cy="180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单击此处添加标题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5439960" y="4206600"/>
            <a:ext cx="4923000" cy="42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单击此处添加副标题</a:t>
            </a:r>
            <a:endParaRPr b="0" lang="en-US" sz="1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0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98040" y="1117080"/>
            <a:ext cx="1074924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14:05:06Z</dcterms:created>
  <dc:creator>Administrator</dc:creator>
  <dc:description/>
  <dc:language>en-US</dc:language>
  <cp:lastModifiedBy>Administrator</cp:lastModifiedBy>
  <dcterms:modified xsi:type="dcterms:W3CDTF">2016-06-29T03:23:28Z</dcterms:modified>
  <cp:revision>2</cp:revision>
  <dc:subject/>
  <dc:title>单击此处添加标题</dc:title>
</cp:coreProperties>
</file>