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626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55640" y="3934440"/>
            <a:ext cx="7626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34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640" y="39344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3440" y="39344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4320" y="22046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3000" y="22046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55640" y="39344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4320" y="39344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3000" y="39344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E39E-7B4B-43C1-A6AF-A30C51B65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755640" y="2204640"/>
            <a:ext cx="762624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A74D-F632-4514-8522-DEFB9074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6262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054E-BC47-4913-9869-A1BA4ED1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7213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3440" y="2204640"/>
            <a:ext cx="37213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3E5C-C1B7-44E7-BF2E-6AF3B8E0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2538-9925-4ECF-9714-B521F818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55640" y="907560"/>
            <a:ext cx="756144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8D9D-2DDA-4733-9EE8-2A4E4CD8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440" y="2204640"/>
            <a:ext cx="37213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55640" y="39344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949-6844-47CA-A298-1C2C4800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55640" y="2204640"/>
            <a:ext cx="762624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7213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34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3440" y="39344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239F-5C85-4354-85F8-8CC764AE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34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55640" y="3934440"/>
            <a:ext cx="7626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2741-C7BB-4101-B44B-82EC2A16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626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55640" y="3934440"/>
            <a:ext cx="7626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8B3-4E74-4D5A-B2B8-E0ACC36E1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34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55640" y="39344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3440" y="39344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CF5-0553-4A43-A368-15640FC1F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34320" y="22046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13000" y="22046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755640" y="39344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34320" y="39344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13000" y="39344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28C8-2B63-4308-9AEF-EE37F3EB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6262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7213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3440" y="2204640"/>
            <a:ext cx="37213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55640" y="907560"/>
            <a:ext cx="756144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440" y="2204640"/>
            <a:ext cx="37213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55640" y="39344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7213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4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3440" y="39344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4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55640" y="3934440"/>
            <a:ext cx="7626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2204640"/>
            <a:ext cx="76262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0172-A654-449B-BF64-F5D4DDD218D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mailto:jhkang67@163.com" TargetMode="Externa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快乐桌面助手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2.1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版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功能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：屏保休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24000" y="2133720"/>
            <a:ext cx="403236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如果您工作之余，想让您的电脑迅速进入屏幕保护，则点击【屏保休眠】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32000" y="285264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87280" y="3213000"/>
            <a:ext cx="2232360" cy="428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3645000"/>
            <a:ext cx="4032360" cy="25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系统设计了快捷键是：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CTRL+ALT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幼圆"/>
              </a:rPr>
              <a:t>试试，十分方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幼圆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幼圆"/>
              </a:rPr>
              <a:t>屏保图像超过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幼圆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幼圆"/>
              </a:rPr>
              <a:t>幅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幼圆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幼圆"/>
              </a:rPr>
              <a:t>还可以做自己的屏保照片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524720" y="4365720"/>
            <a:ext cx="619200" cy="11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908000" y="5373720"/>
            <a:ext cx="2048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功能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：立即关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32000" y="278136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87280" y="3573360"/>
            <a:ext cx="23050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133720"/>
            <a:ext cx="2305080" cy="1008000"/>
          </a:xfrm>
          <a:prstGeom prst="wedgeEllipseCallout">
            <a:avLst>
              <a:gd name="adj1" fmla="val -102685"/>
              <a:gd name="adj2" fmla="val 84486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不用说了，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秒立即关机，十分快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95640" y="3645000"/>
            <a:ext cx="4032360" cy="165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系统设计了快捷键是：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CTRL+ALT+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幼圆"/>
              </a:rPr>
              <a:t>试试，十分方便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功能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：立即锁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2920" y="2204640"/>
            <a:ext cx="3738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如果想不让人动你的电脑，锁定你的计算机屏幕吧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3456000" cy="1847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116000" y="4076640"/>
            <a:ext cx="5114880" cy="2200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4508640"/>
            <a:ext cx="2305080" cy="1008000"/>
          </a:xfrm>
          <a:prstGeom prst="wedgeEllipseCallout">
            <a:avLst>
              <a:gd name="adj1" fmla="val -230787"/>
              <a:gd name="adj2" fmla="val 7009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如果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360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挡住，选择允许即可，此软件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100%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安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功能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：复制自存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824720" cy="3260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651640" y="1628640"/>
            <a:ext cx="2089080" cy="1584360"/>
          </a:xfrm>
          <a:prstGeom prst="wedgeRoundRectCallout">
            <a:avLst>
              <a:gd name="adj1" fmla="val -114819"/>
              <a:gd name="adj2" fmla="val 82666"/>
              <a:gd name="adj3" fmla="val 16667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如果您复制网上资料想保存，系统自动打开收集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140360" y="5300640"/>
            <a:ext cx="4143240" cy="762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38920" y="3860640"/>
            <a:ext cx="2305080" cy="1008360"/>
          </a:xfrm>
          <a:prstGeom prst="wedgeEllipseCallout">
            <a:avLst>
              <a:gd name="adj1" fmla="val -83953"/>
              <a:gd name="adj2" fmla="val 114407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不想自动打开，就点击【系统配置】下如图示的选项，关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567640" cy="4429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00000" y="907920"/>
            <a:ext cx="748836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系统收集器，文件名都准备好了，点击保存即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08360" y="4076640"/>
            <a:ext cx="2519280" cy="1152720"/>
          </a:xfrm>
          <a:prstGeom prst="ellipse">
            <a:avLst/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这个窗口是自动弹出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4968720" cy="33051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56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幼圆"/>
              </a:rPr>
              <a:t>功能</a:t>
            </a:r>
            <a:r>
              <a:rPr b="0" lang="zh-CN" sz="4000" spc="-1" strike="noStrike">
                <a:solidFill>
                  <a:srgbClr val="000000"/>
                </a:solidFill>
                <a:latin typeface="幼圆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幼圆"/>
              </a:rPr>
              <a:t>：定时提醒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3716280"/>
            <a:ext cx="1368720" cy="792360"/>
          </a:xfrm>
          <a:prstGeom prst="wedgeRoundRectCallout">
            <a:avLst>
              <a:gd name="adj1" fmla="val 2898"/>
              <a:gd name="adj2" fmla="val -176254"/>
              <a:gd name="adj3" fmla="val 16667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要提醒的时间和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7080" y="1125360"/>
            <a:ext cx="2087640" cy="863640"/>
          </a:xfrm>
          <a:prstGeom prst="wedgeEllipseCallout">
            <a:avLst>
              <a:gd name="adj1" fmla="val -124828"/>
              <a:gd name="adj2" fmla="val 189523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要提醒的事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输入和事务配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09680" y="1500120"/>
            <a:ext cx="6524640" cy="3857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435640" y="692280"/>
            <a:ext cx="2087640" cy="863640"/>
          </a:xfrm>
          <a:prstGeom prst="wedgeEllipseCallout">
            <a:avLst>
              <a:gd name="adj1" fmla="val -92509"/>
              <a:gd name="adj2" fmla="val 90990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提醒结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00000" y="3429000"/>
            <a:ext cx="748836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当到了提醒时间，系统自动弹出框，显示提示内容，并发出声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功能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：网史清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096320" cy="4467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084720" y="907920"/>
            <a:ext cx="1800360" cy="1008360"/>
          </a:xfrm>
          <a:prstGeom prst="wedgeEllipseCallout">
            <a:avLst>
              <a:gd name="adj1" fmla="val -109171"/>
              <a:gd name="adj2" fmla="val 198189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清除上网历史特别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24360" y="3716280"/>
            <a:ext cx="4751280" cy="1152720"/>
          </a:xfrm>
          <a:prstGeom prst="ellipse">
            <a:avLst/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是否清理在【系统配置】中设置，清理时间在【定时任务】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功能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：精美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MP3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播放器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4103640" cy="2740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292720" y="2205000"/>
            <a:ext cx="2232000" cy="338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边工作，边听音乐，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MP3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播放器为你播不停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功能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：图文快抓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7640" y="1700280"/>
            <a:ext cx="2232000" cy="316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如果您想保存网页，则点击【图文快抓】【抓取新网页】，则打开界面，保存的网页仅仅只有一个文件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.mh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5833800" cy="4194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284720" y="1557360"/>
            <a:ext cx="151128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836640"/>
            <a:ext cx="865080" cy="720720"/>
          </a:xfrm>
          <a:prstGeom prst="wedgeEllipseCallout">
            <a:avLst>
              <a:gd name="adj1" fmla="val -147430"/>
              <a:gd name="adj2" fmla="val 58148"/>
            </a:avLst>
          </a:prstGeom>
          <a:solidFill>
            <a:srgbClr val="ffef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保存网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227640" y="5013360"/>
            <a:ext cx="2160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34920" y="1916280"/>
            <a:ext cx="6545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平时在上网过程中，一些工作比较繁琐，或者可能忘记。比如记录网址、随手记录笔记、拷贝网页文摘、下载网页资料、清除上网历史、删除文件垃圾、屏幕保护、待机休眠、定时提醒、定时关机等等。这些工作可以交给计算机自动来做，本软件含有诸多功能，为您的这些工作提供极大的帮助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756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功能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：系统配置—功能设置在这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7756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4067280" cy="9525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3640" y="1125360"/>
            <a:ext cx="3383280" cy="4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打上勾，就不能定时关机了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976400" y="1682640"/>
            <a:ext cx="4010040" cy="662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116000" y="1844640"/>
            <a:ext cx="934920" cy="4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幼圆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476360" y="2421000"/>
            <a:ext cx="6337440" cy="40035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3068640"/>
            <a:ext cx="1584360" cy="576360"/>
          </a:xfrm>
          <a:prstGeom prst="ellipse">
            <a:avLst/>
          </a:prstGeom>
          <a:solidFill>
            <a:srgbClr val="ffef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设定时关机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4437000"/>
            <a:ext cx="1584360" cy="576360"/>
          </a:xfrm>
          <a:prstGeom prst="ellipse">
            <a:avLst/>
          </a:prstGeom>
          <a:solidFill>
            <a:srgbClr val="ffef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设无动作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32720" y="3500280"/>
            <a:ext cx="1871640" cy="576360"/>
          </a:xfrm>
          <a:prstGeom prst="ellipse">
            <a:avLst/>
          </a:prstGeom>
          <a:solidFill>
            <a:srgbClr val="ffef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设定时清理垃圾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4000" y="4653000"/>
            <a:ext cx="1657440" cy="576360"/>
          </a:xfrm>
          <a:prstGeom prst="ellipse">
            <a:avLst/>
          </a:prstGeom>
          <a:solidFill>
            <a:srgbClr val="ffef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屏保放映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5400720" cy="3527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411280" y="115920"/>
            <a:ext cx="1511280" cy="936720"/>
          </a:xfrm>
          <a:prstGeom prst="wedgeEllipseCallout">
            <a:avLst>
              <a:gd name="adj1" fmla="val -98111"/>
              <a:gd name="adj2" fmla="val 109490"/>
            </a:avLst>
          </a:prstGeom>
          <a:solidFill>
            <a:srgbClr val="ffef6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打上勾，屏保，休眠等全部关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00720" y="189000"/>
            <a:ext cx="1655640" cy="1079280"/>
          </a:xfrm>
          <a:prstGeom prst="wedgeEllipseCallout">
            <a:avLst>
              <a:gd name="adj1" fmla="val -152490"/>
              <a:gd name="adj2" fmla="val 138824"/>
            </a:avLst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打上勾，剪切板不能自动抓取，要自动抓取，去掉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1413000"/>
            <a:ext cx="1655640" cy="1079280"/>
          </a:xfrm>
          <a:prstGeom prst="wedgeEllipseCallout">
            <a:avLst>
              <a:gd name="adj1" fmla="val -200046"/>
              <a:gd name="adj2" fmla="val 69263"/>
            </a:avLst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打上勾，不能自动清理上网历史和垃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4360" y="4797360"/>
            <a:ext cx="1655640" cy="1079640"/>
          </a:xfrm>
          <a:prstGeom prst="wedgeEllipseCallout">
            <a:avLst>
              <a:gd name="adj1" fmla="val -36768"/>
              <a:gd name="adj2" fmla="val -128087"/>
            </a:avLst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【图文快抓】中默认的下载路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4360" y="3573360"/>
            <a:ext cx="1655640" cy="1224000"/>
          </a:xfrm>
          <a:prstGeom prst="wedgeEllipseCallout">
            <a:avLst>
              <a:gd name="adj1" fmla="val -162847"/>
              <a:gd name="adj2" fmla="val -67120"/>
            </a:avLst>
          </a:prstGeom>
          <a:solidFill>
            <a:srgbClr val="ffef6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开机自动运行，并不干扰您的工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0360" y="2997360"/>
            <a:ext cx="2160720" cy="1223640"/>
          </a:xfrm>
          <a:prstGeom prst="wedgeEllipseCallout">
            <a:avLst>
              <a:gd name="adj1" fmla="val -145078"/>
              <a:gd name="adj2" fmla="val -47018"/>
            </a:avLst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打上勾，就不在整点显示【每日一笑】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635280" y="4614840"/>
            <a:ext cx="51120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4057560" cy="809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979640" y="1773360"/>
            <a:ext cx="6191280" cy="3971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651640" y="476280"/>
            <a:ext cx="2089080" cy="1079640"/>
          </a:xfrm>
          <a:prstGeom prst="wedgeEllipseCallout">
            <a:avLst>
              <a:gd name="adj1" fmla="val -162995"/>
              <a:gd name="adj2" fmla="val 101763"/>
            </a:avLst>
          </a:prstGeom>
          <a:solidFill>
            <a:srgbClr val="ffe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设密码保护的目的是忘记密码后获得密码，至少填写二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128000" cy="4883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651640" y="476280"/>
            <a:ext cx="1441440" cy="1079640"/>
          </a:xfrm>
          <a:prstGeom prst="wedgeEllipseCallout">
            <a:avLst>
              <a:gd name="adj1" fmla="val -187444"/>
              <a:gd name="adj2" fmla="val 52060"/>
            </a:avLst>
          </a:prstGeom>
          <a:solidFill>
            <a:srgbClr val="ffe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电脑网络功能测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3959280" cy="2724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003640" y="189000"/>
            <a:ext cx="1656000" cy="1079280"/>
          </a:xfrm>
          <a:prstGeom prst="wedgeEllipseCallout">
            <a:avLst>
              <a:gd name="adj1" fmla="val -81833"/>
              <a:gd name="adj2" fmla="val 60296"/>
            </a:avLst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将数据库中内容全部删除，开始新的数据存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476360" y="3284640"/>
            <a:ext cx="3219480" cy="1371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724360" y="2205000"/>
            <a:ext cx="1656000" cy="1079640"/>
          </a:xfrm>
          <a:prstGeom prst="wedgeEllipseCallout">
            <a:avLst>
              <a:gd name="adj1" fmla="val -188449"/>
              <a:gd name="adj2" fmla="val 94412"/>
            </a:avLst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运行本软件时自动打开的网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140360" y="3933720"/>
            <a:ext cx="4751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219480" cy="1371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284720" y="189000"/>
            <a:ext cx="2232000" cy="1512720"/>
          </a:xfrm>
          <a:prstGeom prst="wedgeEllipseCallout">
            <a:avLst>
              <a:gd name="adj1" fmla="val -138337"/>
              <a:gd name="adj2" fmla="val 81689"/>
            </a:avLst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系统在 您不用电脑的时候，自动计算为您节约了多少电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6476760" cy="35625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580000" y="1341360"/>
            <a:ext cx="2952720" cy="1871640"/>
          </a:xfrm>
          <a:prstGeom prst="cloudCallout">
            <a:avLst>
              <a:gd name="adj1" fmla="val -34462"/>
              <a:gd name="adj2" fmla="val 55430"/>
            </a:avLst>
          </a:prstGeom>
          <a:solidFill>
            <a:srgbClr val="ffe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特别注意，不管在家里还是在办公室，节约电能每个公民的义务，为节能环保作出贡献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3141720"/>
            <a:ext cx="2736720" cy="251928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574920 h 2519280"/>
              <a:gd name="textAreaBottom" fmla="*/ 19443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节约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瓦时，相当于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100W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灯泡点亮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小时，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25W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节能灯点亮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小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2239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411280" y="2133720"/>
            <a:ext cx="6286680" cy="4228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156360" y="836640"/>
            <a:ext cx="1584360" cy="1368360"/>
          </a:xfrm>
          <a:prstGeom prst="wedgeEllipseCallout">
            <a:avLst>
              <a:gd name="adj1" fmla="val -77953"/>
              <a:gd name="adj2" fmla="val 71810"/>
            </a:avLst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数据库中图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注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3305160" cy="4095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148360" y="1052640"/>
            <a:ext cx="3311280" cy="2447640"/>
          </a:xfrm>
          <a:prstGeom prst="cloudCallout">
            <a:avLst>
              <a:gd name="adj1" fmla="val -90796"/>
              <a:gd name="adj2" fmla="val 63814"/>
            </a:avLst>
          </a:prstGeom>
          <a:solidFill>
            <a:srgbClr val="ffe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告诉作者：您自己电脑的机器码，作者将为你发送一个注册码，永久有效，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QQ:1586907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Arial"/>
                <a:hlinkClick r:id="rId2"/>
              </a:rPr>
              <a:t>jhkang67@163.com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感谢作者的辛苦劳动，不注册，不能作自己的屏保图像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做自己的屏保图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6315120" cy="46386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148360" y="620640"/>
            <a:ext cx="1944720" cy="1656000"/>
          </a:xfrm>
          <a:prstGeom prst="wedgeEllipseCallout">
            <a:avLst>
              <a:gd name="adj1" fmla="val -165430"/>
              <a:gd name="adj2" fmla="val 200527"/>
            </a:avLst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第二步：把自己的图像目录准备好，只支持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JPG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格式，照片数目不超过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幅，文件名任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56000" y="2997360"/>
            <a:ext cx="1440000" cy="1439640"/>
          </a:xfrm>
          <a:prstGeom prst="wedgeEllipseCallout">
            <a:avLst>
              <a:gd name="adj1" fmla="val -142060"/>
              <a:gd name="adj2" fmla="val 98842"/>
            </a:avLst>
          </a:prstGeom>
          <a:solidFill>
            <a:srgbClr val="ffe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第一步：把软件中原有的图像清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2421000"/>
            <a:ext cx="1440000" cy="1439640"/>
          </a:xfrm>
          <a:prstGeom prst="wedgeEllipseCallout">
            <a:avLst>
              <a:gd name="adj1" fmla="val 35226"/>
              <a:gd name="adj2" fmla="val 135226"/>
            </a:avLst>
          </a:prstGeom>
          <a:solidFill>
            <a:srgbClr val="ffe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第三部，图像写入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00720" y="2565360"/>
            <a:ext cx="1944720" cy="1655640"/>
          </a:xfrm>
          <a:prstGeom prst="wedgeEllipseCallout">
            <a:avLst>
              <a:gd name="adj1" fmla="val -148694"/>
              <a:gd name="adj2" fmla="val 106569"/>
            </a:avLst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第四部，点击【从数据库读图像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43640" y="4653000"/>
            <a:ext cx="2303640" cy="1441440"/>
          </a:xfrm>
          <a:prstGeom prst="cloudCallout">
            <a:avLst>
              <a:gd name="adj1" fmla="val -36560"/>
              <a:gd name="adj2" fmla="val 32819"/>
            </a:avLst>
          </a:prstGeom>
          <a:solidFill>
            <a:srgbClr val="ffe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非常简单，非常个性化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834920" y="907920"/>
            <a:ext cx="676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本工具运行后，默认状态下，如果鼠标键盘无动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分钟，则显示精美屏保图片，显示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分钟再无键盘鼠标动作，则自动进入休眠状态，以节约电能；或者自动进入锁定状态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如果在待机状态一直无动作至深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23:20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，则自动关机；如果在锁定屏幕状态，时间超过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分钟，则系统自动关闭电脑屏幕，以节约电能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在运行状态下，系统每隔一个整点，自动弹出精彩笑话，供工作之余轻松一下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快捷键操作 十分方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7632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Ctrl+ alt +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左光标键    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屏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Ctrl+ alt +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右光标键    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锁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Ctrl+ alt +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上光标键    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从任务栏弹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Ctrl+ alt +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下光标键    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最小化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Ctrl+ alt +J    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快速调节时间，防止干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Ctrl+ alt +0    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秒关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Ctrl+ alt +1     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立即重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7280" y="1267920"/>
            <a:ext cx="7561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感谢您的使用！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咨询：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QQ:     158690747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MAIL:  jhkang67@163.COM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phone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13109198619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916360" y="1628640"/>
            <a:ext cx="2808000" cy="2737080"/>
          </a:xfrm>
          <a:custGeom>
            <a:avLst/>
            <a:gdLst>
              <a:gd name="textAreaLeft" fmla="*/ 640800 w 2808000"/>
              <a:gd name="textAreaRight" fmla="*/ 2167200 w 2808000"/>
              <a:gd name="textAreaTop" fmla="*/ 624600 h 2737080"/>
              <a:gd name="textAreaBottom" fmla="*/ 211248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节约</a:t>
            </a: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瓦时，相当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100W</a:t>
            </a: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的灯泡点亮</a:t>
            </a: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小时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25W</a:t>
            </a: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节能灯点亮</a:t>
            </a: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小时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16000" y="4581360"/>
            <a:ext cx="6840720" cy="31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omic Sans MS"/>
              </a:rPr>
              <a:t>感谢您为节能环保做出贡献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124000" y="1052280"/>
            <a:ext cx="6114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系统在设定的时间</a:t>
            </a:r>
            <a:r>
              <a:rPr b="0" lang="zh-CN" sz="3200" spc="-1" strike="noStrike">
                <a:solidFill>
                  <a:srgbClr val="ff3300"/>
                </a:solidFill>
                <a:latin typeface="Comic Sans MS"/>
              </a:rPr>
              <a:t>自动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清理上网历史以保护你的隐私（当然也可以手工清除）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omic Sans MS"/>
              </a:rPr>
              <a:t>自动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清理电脑垃圾文件，保持电脑运行速度和良好状态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omic Sans MS"/>
              </a:rPr>
              <a:t>自动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在您设定的时间定时提醒，帮助您做不少工作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系统内含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幅精美屏保图片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含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个以上精彩笑话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6262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3280" y="662040"/>
            <a:ext cx="8677440" cy="5533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92360" y="3573360"/>
            <a:ext cx="676728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总界面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715080" cy="4543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56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功能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1—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网址收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1916280"/>
            <a:ext cx="503280" cy="345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4149720"/>
            <a:ext cx="863640" cy="719280"/>
          </a:xfrm>
          <a:prstGeom prst="wedgeEllipseCallout">
            <a:avLst>
              <a:gd name="adj1" fmla="val 66912"/>
              <a:gd name="adj2" fmla="val -145805"/>
            </a:avLst>
          </a:prstGeom>
          <a:solidFill>
            <a:srgbClr val="ffef66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点击次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4437000"/>
            <a:ext cx="561672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黑体"/>
              </a:rPr>
              <a:t>双击即可打开网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5445000"/>
            <a:ext cx="1800360" cy="2984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5877000"/>
            <a:ext cx="1295640" cy="718920"/>
          </a:xfrm>
          <a:prstGeom prst="wedgeEllipseCallout">
            <a:avLst>
              <a:gd name="adj1" fmla="val -129287"/>
              <a:gd name="adj2" fmla="val -68101"/>
            </a:avLst>
          </a:prstGeom>
          <a:solidFill>
            <a:srgbClr val="ffef66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新网址收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076800" cy="4314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716360" y="2708280"/>
            <a:ext cx="1008000" cy="792000"/>
          </a:xfrm>
          <a:prstGeom prst="wedgeEllipseCallout">
            <a:avLst>
              <a:gd name="adj1" fmla="val -233777"/>
              <a:gd name="adj2" fmla="val 199699"/>
            </a:avLst>
          </a:prstGeom>
          <a:solidFill>
            <a:srgbClr val="ffe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填写网址名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1923840" cy="2009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76720" y="1844640"/>
            <a:ext cx="5472000" cy="3673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2700360" y="2205000"/>
            <a:ext cx="719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350028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7280" y="2997360"/>
            <a:ext cx="865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2997360"/>
            <a:ext cx="792360" cy="165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627280" y="2923920"/>
            <a:ext cx="792360" cy="73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1341360"/>
            <a:ext cx="6048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标注的作用是快速找到您所需要的网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功能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我的日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277040" cy="4667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435640" y="907920"/>
            <a:ext cx="1800360" cy="792360"/>
          </a:xfrm>
          <a:prstGeom prst="wedgeEllipseCallout">
            <a:avLst>
              <a:gd name="adj1" fmla="val 71958"/>
              <a:gd name="adj2" fmla="val 111722"/>
            </a:avLst>
          </a:prstGeom>
          <a:solidFill>
            <a:srgbClr val="ffe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看加密日记，必须登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2205000"/>
            <a:ext cx="1008000" cy="647640"/>
          </a:xfrm>
          <a:prstGeom prst="wedgeEllipseCallout">
            <a:avLst>
              <a:gd name="adj1" fmla="val -150000"/>
              <a:gd name="adj2" fmla="val 11715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不加密日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03640" y="2852640"/>
            <a:ext cx="1584360" cy="647640"/>
          </a:xfrm>
          <a:prstGeom prst="wedgeEllipseCallout">
            <a:avLst>
              <a:gd name="adj1" fmla="val -105009"/>
              <a:gd name="adj2" fmla="val 13137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黄色显示为加密日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2852640"/>
            <a:ext cx="11509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20000" y="4581360"/>
            <a:ext cx="1512720" cy="719280"/>
          </a:xfrm>
          <a:prstGeom prst="wedgeEllipseCallout">
            <a:avLst>
              <a:gd name="adj1" fmla="val -40976"/>
              <a:gd name="adj2" fmla="val -242495"/>
            </a:avLst>
          </a:prstGeom>
          <a:solidFill>
            <a:srgbClr val="ffe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日记可导出到文本文件，另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06:53:14Z</dcterms:created>
  <dc:creator>User</dc:creator>
  <dc:description/>
  <dc:language>en-US</dc:language>
  <cp:lastModifiedBy>User</cp:lastModifiedBy>
  <dcterms:modified xsi:type="dcterms:W3CDTF">2011-12-21T05:29:28Z</dcterms:modified>
  <cp:revision>61</cp:revision>
  <dc:subject/>
  <dc:title>快乐桌面助手2.1版</dc:title>
</cp:coreProperties>
</file>