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0.png" ContentType="image/png"/>
  <Override PartName="/ppt/media/image10.png" ContentType="image/png"/>
  <Override PartName="/ppt/media/image5.wmf" ContentType="image/x-wmf"/>
  <Override PartName="/ppt/media/image33.wmf" ContentType="image/x-wmf"/>
  <Override PartName="/ppt/media/image13.png" ContentType="image/png"/>
  <Override PartName="/ppt/media/image11.png" ContentType="image/png"/>
  <Override PartName="/ppt/media/image35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7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type.wav" ContentType="audio/x-wav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4720" y="72972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67080" y="8442360"/>
            <a:ext cx="3021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94032C-F99F-4C42-B7F1-1D6621C67C12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58720" y="8723160"/>
            <a:ext cx="951120" cy="212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14360" y="363600"/>
            <a:ext cx="32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era APEX 20K Devic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52000" y="4430880"/>
            <a:ext cx="4613400" cy="4039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35080" y="728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152000" y="4430880"/>
            <a:ext cx="4613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7640" indent="0" algn="ctr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APEX20K Altera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0" algn="ctr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(Coming Soon: Other Altera families: FLEX 10KE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35080" y="728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152000" y="4430880"/>
            <a:ext cx="4613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7640" indent="0" algn="ctr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APEX20K Altera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0" algn="ctr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(Coming Soon: Other Altera families: FLEX 10KE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F034-6416-42A6-875F-B2C6EBDDC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9360" y="354672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E362-568B-4C1E-A9EA-0D1D5F62E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688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B6DB-1CF8-4803-AAD1-FE0A16875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76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52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936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76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52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082E-1F76-4AA3-81FD-BE13A80AD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DAF1-4E2F-4E41-ABE2-123CB4C2B8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A6DFC-DC2E-4CF2-B6F6-11E8B1A37A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AB1B-96DE-40E8-8629-CEB4E2F504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6D20-64E0-4D23-B1AB-A1199225FE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30CE-79F4-4AB0-88A0-7E5E6ADF64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9360" y="0"/>
            <a:ext cx="834732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2535-4149-4795-BFF5-679D7FB743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921F-89CF-471C-BF99-260382591E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6C9D-F731-433E-9A2D-E4560A0B4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688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C9BAA-E541-4964-9F53-15E2A33B73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CC2D-111E-4EF6-9E0C-BDB35323FD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9360" y="354672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1E64-00A9-4A33-BA9C-21318FC255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688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08351-E75D-4A0D-9FB2-5BEC330EF8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176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52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936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176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52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98EF8-D1A5-4CC6-98E1-3BA2517CAF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58E8-210C-4DD2-B5E5-6C6B64FE3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3C35-D742-40CB-A4F5-701EAD895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9111-6A8F-428F-BF8E-336052928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9360" y="0"/>
            <a:ext cx="834732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1C2B-D76C-4770-A63D-4B13A6ACA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B18C-C3B9-407B-87D7-2399A5C26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688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F4EB-7C98-4556-8E1F-2D704DCA0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9441-93F4-42E4-810B-66FF23559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5680" y="6248520"/>
            <a:ext cx="2890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363240" y="6362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5A7E-5E28-4A53-BB17-C3AC046871F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6920" indent="-22860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22860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915840"/>
            <a:ext cx="9144000" cy="160560"/>
          </a:xfrm>
          <a:prstGeom prst="bevel">
            <a:avLst>
              <a:gd name="adj" fmla="val 50000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374400" y="6362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FFE7-38FB-4E81-84F5-ABF29FB3A8F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4343400"/>
            <a:ext cx="3390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5840"/>
            <a:ext cx="9144000" cy="160560"/>
          </a:xfrm>
          <a:prstGeom prst="bevel">
            <a:avLst>
              <a:gd name="adj" fmla="val 50000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8320" algn="ctr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1040" algn="ctr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1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1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设计流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5A56D-9E80-4D70-A36E-485706CADD9E}" type="slidenum">
              <a:t>1</a:t>
            </a:fld>
          </a:p>
        </p:txBody>
      </p:sp>
    </p:spTree>
  </p:cSld>
  <p:transition advTm="6000">
    <p:random/>
    <p:sndAc>
      <p:stSnd>
        <p:snd r:embed="rId1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程安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29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的仿真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户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功能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u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输出仿真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序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random/>
    <p:sndAc>
      <p:stSnd>
        <p:snd r:embed="rId1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技术公司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591080" cy="3832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53000" y="1676520"/>
            <a:ext cx="84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main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主窗口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2440" y="3352680"/>
            <a:ext cx="116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structure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结构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343400"/>
            <a:ext cx="144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process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处理窗口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3600" y="5257800"/>
            <a:ext cx="202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Signal&amp;variable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信号和变量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5880" y="5791320"/>
            <a:ext cx="12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dataflow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数据流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98000" y="1523880"/>
            <a:ext cx="89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source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源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16160" y="3962520"/>
            <a:ext cx="794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Wave&amp;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波形和列表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828800"/>
            <a:ext cx="68580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3429000"/>
            <a:ext cx="304920" cy="763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4495680"/>
            <a:ext cx="30492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124080" y="3504960"/>
            <a:ext cx="762120" cy="1600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124080" y="4648320"/>
            <a:ext cx="762120" cy="457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781320" y="1752480"/>
            <a:ext cx="685800" cy="5335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781680" y="3657600"/>
            <a:ext cx="457200" cy="457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781680" y="4114800"/>
            <a:ext cx="45720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962520" y="4952520"/>
            <a:ext cx="685800" cy="8384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9CA1-E796-44E1-B446-24671F05714E}" type="slidenum">
              <a:t>11</a:t>
            </a:fld>
          </a:p>
        </p:txBody>
      </p:sp>
    </p:spTree>
  </p:cSld>
  <p:transition advTm="13000">
    <p:random/>
    <p:sndAc>
      <p:stSnd>
        <p:snd r:embed="rId2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现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互式的命令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m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唯一的界面是控制台的命令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用户界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户界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接受菜单输入和命令行输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课程主要讨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批处理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行运行批处理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讨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2C1F-6C9C-49C7-AE91-67DEFBA542CF}" type="slidenum">
              <a:t>12</a:t>
            </a:fld>
          </a:p>
        </p:txBody>
      </p:sp>
    </p:spTree>
  </p:cSld>
  <p:transition advTm="18000">
    <p:random/>
    <p:sndAc>
      <p:stSnd>
        <p:snd r:embed="rId1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本仿真步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9720" y="1204920"/>
            <a:ext cx="834732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128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映射库到物理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译源代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有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码必须被编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erilo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不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启动仿真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5 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执行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DDEF-598B-4EB7-9A25-68840BE41505}" type="slidenum">
              <a:t>13</a:t>
            </a:fld>
          </a:p>
        </p:txBody>
      </p:sp>
    </p:spTree>
  </p:cSld>
  <p:transition advTm="17000">
    <p:random/>
    <p:sndAc>
      <p:stSnd>
        <p:snd r:embed="rId1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3505320" cy="20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0128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7280" y="3352680"/>
            <a:ext cx="666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U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主菜单里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Create a New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m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记录窗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ModelSim&gt;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  <a:ea typeface="宋体"/>
              </a:rPr>
              <a:t>vlib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库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9A53-17D8-4800-8A48-1C44F3F056A2}" type="slidenum">
              <a:t>14</a:t>
            </a:fld>
          </a:p>
        </p:txBody>
      </p:sp>
    </p:spTree>
  </p:cSld>
  <p:transition advTm="20000">
    <p:random/>
    <p:sndAc>
      <p:stSnd>
        <p:snd r:embed="rId2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9720" y="1204920"/>
            <a:ext cx="8347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包含编译设计单元的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都被编译到库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个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缺省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当前被编译的设计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译前必须建立一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每个编译只允许一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能被当前编译引用的设计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编译期间允许多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能通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句引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D029-73FC-40F8-A344-892A744A087A}" type="slidenum">
              <a:t>15</a:t>
            </a:fld>
          </a:p>
        </p:txBody>
      </p:sp>
    </p:spTree>
  </p:cSld>
  <p:transition advTm="22000">
    <p:random/>
    <p:sndAc>
      <p:stSnd>
        <p:snd r:embed="rId1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219320"/>
            <a:ext cx="405000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个特定的库中必须有唯一的名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ie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Declaration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声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Defined Primitives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户定义原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11760" y="1233360"/>
            <a:ext cx="404964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相同的库里单元可以用一个普通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体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Veri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次要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938B-1C8F-4B79-A14B-D132DA3B2E68}" type="slidenum">
              <a:t>16</a:t>
            </a:fld>
          </a:p>
        </p:txBody>
      </p:sp>
    </p:spTree>
  </p:cSld>
  <p:transition advTm="29000">
    <p:random/>
    <p:sndAc>
      <p:stSnd>
        <p:snd r:embed="rId1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x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学者不要去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唯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认可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_logic_1164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于仿真加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预编译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psy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算法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_logi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基本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于仿真加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预先确定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F358-8F04-41B4-83F1-DA6F1010F3B0}" type="slidenum">
              <a:t>17</a:t>
            </a:fld>
          </a:p>
        </p:txBody>
      </p:sp>
    </p:spTree>
  </p:cSld>
  <p:transition advTm="24000">
    <p:random/>
    <p:sndAc>
      <p:stSnd>
        <p:snd r:embed="rId1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vli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lt;library_name&gt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305928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缺省值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41680" y="1447920"/>
            <a:ext cx="17658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y_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8480" y="1828800"/>
            <a:ext cx="674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96280" y="2514600"/>
            <a:ext cx="22183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_verilog_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61720" y="2514600"/>
            <a:ext cx="15858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_vhdl_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60480" y="1828800"/>
            <a:ext cx="7124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95560" y="2971800"/>
            <a:ext cx="1499040" cy="13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primary.v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.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62080" y="2971800"/>
            <a:ext cx="2084040" cy="13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rch_name&gt;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rch_name&gt;.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267080" y="1676520"/>
            <a:ext cx="1067040" cy="30456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029200" y="1828800"/>
            <a:ext cx="533520" cy="68580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1828800"/>
            <a:ext cx="304920" cy="68580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1676520"/>
            <a:ext cx="1066680" cy="30456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44956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primary.dat -    Verilog module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HDL entit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编码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primary.vhd -   Verilog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端口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HDL entit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陈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rch_name&gt;.dat - VHD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体系的编码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log.asm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rch_name&gt;.asm –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执行代码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174E-CE80-4B71-A769-372CB2F9DC08}" type="slidenum">
              <a:t>18</a:t>
            </a:fld>
          </a:p>
        </p:txBody>
      </p:sp>
    </p:spTree>
  </p:cSld>
  <p:transition advTm="61000">
    <p:random/>
    <p:sndAc>
      <p:stSnd>
        <p:snd r:embed="rId1" name="typ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立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505320" cy="20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429000" cy="27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6400800" y="2514600"/>
            <a:ext cx="25146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c0128"/>
                </a:solidFill>
                <a:uFillTx/>
                <a:latin typeface="Arial"/>
              </a:rPr>
              <a:t>a new library on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和输入库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76560" y="2971800"/>
            <a:ext cx="1600200" cy="3049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343040" y="2971800"/>
            <a:ext cx="2133720" cy="9144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3886200"/>
            <a:ext cx="221004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这个命令在局部目录建立一个库子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17200" y="5715000"/>
            <a:ext cx="1709280" cy="36828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zh-CN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lib lpm_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98CF-92D8-439A-852B-114D92B9B033}" type="slidenum">
              <a:t>19</a:t>
            </a:fld>
          </a:p>
        </p:txBody>
      </p:sp>
    </p:spTree>
  </p:cSld>
  <p:transition advTm="26000">
    <p:random/>
    <p:sndAc>
      <p:stSnd>
        <p:snd r:embed="rId3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10800000">
            <a:off x="6400800" y="5562360"/>
            <a:ext cx="1295280" cy="152280"/>
          </a:xfrm>
          <a:prstGeom prst="leftArrow">
            <a:avLst>
              <a:gd name="adj1" fmla="val 50000"/>
              <a:gd name="adj2" fmla="val 55249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5562720" y="4952880"/>
            <a:ext cx="2133360" cy="152640"/>
          </a:xfrm>
          <a:prstGeom prst="leftArrow">
            <a:avLst>
              <a:gd name="adj1" fmla="val 50000"/>
              <a:gd name="adj2" fmla="val 90782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4800240" y="4343040"/>
            <a:ext cx="2895480" cy="152280"/>
          </a:xfrm>
          <a:prstGeom prst="leftArrow">
            <a:avLst>
              <a:gd name="adj1" fmla="val 50000"/>
              <a:gd name="adj2" fmla="val 123504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3962160" y="3733560"/>
            <a:ext cx="3733560" cy="152280"/>
          </a:xfrm>
          <a:prstGeom prst="leftArrow">
            <a:avLst>
              <a:gd name="adj1" fmla="val 50000"/>
              <a:gd name="adj2" fmla="val 159252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3276720" y="2513880"/>
            <a:ext cx="4419360" cy="152280"/>
          </a:xfrm>
          <a:prstGeom prst="leftArrow">
            <a:avLst>
              <a:gd name="adj1" fmla="val 50000"/>
              <a:gd name="adj2" fmla="val 188504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5791320"/>
            <a:ext cx="152280" cy="380880"/>
          </a:xfrm>
          <a:prstGeom prst="downArrow">
            <a:avLst>
              <a:gd name="adj1" fmla="val 50000"/>
              <a:gd name="adj2" fmla="val 12507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1676520"/>
            <a:ext cx="152640" cy="761760"/>
          </a:xfrm>
          <a:prstGeom prst="upArrow">
            <a:avLst>
              <a:gd name="adj1" fmla="val 50000"/>
              <a:gd name="adj2" fmla="val 166675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1600200"/>
            <a:ext cx="3504960" cy="152280"/>
          </a:xfrm>
          <a:prstGeom prst="leftArrow">
            <a:avLst>
              <a:gd name="adj1" fmla="val 50000"/>
              <a:gd name="adj2" fmla="val 14950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1981080"/>
            <a:ext cx="152280" cy="457200"/>
          </a:xfrm>
          <a:prstGeom prst="downArrow">
            <a:avLst>
              <a:gd name="adj1" fmla="val 50000"/>
              <a:gd name="adj2" fmla="val 73878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1447920"/>
            <a:ext cx="119160" cy="380880"/>
          </a:xfrm>
          <a:prstGeom prst="downArrow">
            <a:avLst>
              <a:gd name="adj1" fmla="val 50000"/>
              <a:gd name="adj2" fmla="val 159833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5181480"/>
            <a:ext cx="152280" cy="292320"/>
          </a:xfrm>
          <a:prstGeom prst="downArrow">
            <a:avLst>
              <a:gd name="adj1" fmla="val 50000"/>
              <a:gd name="adj2" fmla="val 95990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743200"/>
            <a:ext cx="152640" cy="304920"/>
          </a:xfrm>
          <a:prstGeom prst="downArrow">
            <a:avLst>
              <a:gd name="adj1" fmla="val 50000"/>
              <a:gd name="adj2" fmla="val 9989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352680"/>
            <a:ext cx="152640" cy="304920"/>
          </a:xfrm>
          <a:prstGeom prst="downArrow">
            <a:avLst>
              <a:gd name="adj1" fmla="val 50000"/>
              <a:gd name="adj2" fmla="val 9989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3962520"/>
            <a:ext cx="152640" cy="291960"/>
          </a:xfrm>
          <a:prstGeom prst="downArrow">
            <a:avLst>
              <a:gd name="adj1" fmla="val 50000"/>
              <a:gd name="adj2" fmla="val 95645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572000"/>
            <a:ext cx="152280" cy="291960"/>
          </a:xfrm>
          <a:prstGeom prst="downArrow">
            <a:avLst>
              <a:gd name="adj1" fmla="val 50000"/>
              <a:gd name="adj2" fmla="val 9587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6194520"/>
            <a:ext cx="2270160" cy="2919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8280" y="1241280"/>
            <a:ext cx="2197080" cy="2923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81600" y="6172200"/>
            <a:ext cx="67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系统产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23920" y="1219320"/>
            <a:ext cx="67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设计规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438280"/>
            <a:ext cx="152640" cy="1371600"/>
          </a:xfrm>
          <a:prstGeom prst="upArrow">
            <a:avLst>
              <a:gd name="adj1" fmla="val 50000"/>
              <a:gd name="adj2" fmla="val 314463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3809880"/>
            <a:ext cx="152640" cy="533520"/>
          </a:xfrm>
          <a:prstGeom prst="upArrow">
            <a:avLst>
              <a:gd name="adj1" fmla="val 50000"/>
              <a:gd name="adj2" fmla="val 59760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83456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设计输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44404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05388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设计综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427284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门级仿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66336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局和布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8268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时序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549216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系统上验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1499760"/>
            <a:ext cx="152388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修改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4343400"/>
            <a:ext cx="152640" cy="685800"/>
          </a:xfrm>
          <a:prstGeom prst="upArrow">
            <a:avLst>
              <a:gd name="adj1" fmla="val 50000"/>
              <a:gd name="adj2" fmla="val 76816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5029200"/>
            <a:ext cx="152640" cy="609480"/>
          </a:xfrm>
          <a:prstGeom prst="upArrow">
            <a:avLst>
              <a:gd name="adj1" fmla="val 50000"/>
              <a:gd name="adj2" fmla="val 68268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1600200"/>
            <a:ext cx="1524240" cy="152280"/>
          </a:xfrm>
          <a:prstGeom prst="leftArrow">
            <a:avLst>
              <a:gd name="adj1" fmla="val 50000"/>
              <a:gd name="adj2" fmla="val 65015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3560-6B13-432A-8D65-9E90CA996586}" type="slidenum">
              <a:t>2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逻辑库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须映射一个逻辑库名到库路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定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库路径里的文件必须已经被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相对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绝对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软件路径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需要库在工作目录里没有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ma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686F-69DB-4D3F-A53E-3C5807574A8A}" type="slidenum">
              <a:t>20</a:t>
            </a:fld>
          </a:p>
        </p:txBody>
      </p:sp>
    </p:spTree>
  </p:cSld>
  <p:transition advTm="29000">
    <p:random/>
    <p:sndAc>
      <p:stSnd>
        <p:snd r:embed="rId1" name="typ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5486400" y="1828800"/>
          <a:ext cx="34480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828800"/>
                    <a:ext cx="3448080" cy="1905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逻辑库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logical_name&gt; &lt;directory_pa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37339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U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主菜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Brows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Create a New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m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主体的记录窗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odelSim&gt;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  <a:ea typeface="宋体"/>
              </a:rPr>
              <a:t>vmap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_work c:/my_design/my_lib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E260-FE85-4713-B8F4-2469E61D2D49}" type="slidenum">
              <a:t>21</a:t>
            </a:fld>
          </a:p>
        </p:txBody>
      </p:sp>
    </p:spTree>
  </p:cSld>
  <p:transition advTm="29000">
    <p:random/>
    <p:sndAc>
      <p:stSnd>
        <p:snd r:embed="rId3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50532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现有的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09680" y="1981080"/>
          <a:ext cx="3133800" cy="26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981080"/>
                    <a:ext cx="3133800" cy="2695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095880" y="1905120"/>
            <a:ext cx="2057400" cy="824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 u="sng">
                <a:solidFill>
                  <a:srgbClr val="fc0128"/>
                </a:solidFill>
                <a:uFillTx/>
                <a:latin typeface="Arial"/>
              </a:rPr>
              <a:t>a map to an existing libra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和输入库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885840" y="2362320"/>
            <a:ext cx="2133720" cy="10666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4419720"/>
            <a:ext cx="12956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浏览库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81120" y="3733920"/>
            <a:ext cx="1143000" cy="8380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2895480"/>
            <a:ext cx="152388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3200400"/>
            <a:ext cx="274320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用这个命令可映射一个设计单元已经预编译的库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74560" y="5486400"/>
            <a:ext cx="4159800" cy="36828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zh-CN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map lpm_sim c:/Quartus/library/l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C8CC-C770-4BDE-BF5D-D461D19B8CDC}" type="slidenum">
              <a:t>22</a:t>
            </a:fld>
          </a:p>
        </p:txBody>
      </p:sp>
    </p:spTree>
  </p:cSld>
  <p:transition advTm="30000">
    <p:random/>
    <p:sndAc>
      <p:stSnd>
        <p:snd r:embed="rId4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228600" y="1143000"/>
          <a:ext cx="350532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3505320" cy="2028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现有的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1981080"/>
            <a:ext cx="2514600" cy="824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 u="sng">
                <a:solidFill>
                  <a:srgbClr val="fc0128"/>
                </a:solidFill>
                <a:uFillTx/>
                <a:latin typeface="Arial"/>
              </a:rPr>
              <a:t>a new library and a logical mapping to i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输入库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209680" y="1905120"/>
          <a:ext cx="3124440" cy="26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905120"/>
                    <a:ext cx="3124440" cy="2695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H="1">
            <a:off x="3809520" y="2362320"/>
            <a:ext cx="2210040" cy="9903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3276720"/>
            <a:ext cx="190476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这个命令在局部目录建立一个库目录然后为它设立映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9480" y="5234040"/>
            <a:ext cx="2457360" cy="64260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zh-CN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lib my_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vmap my_lib my_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2286000"/>
            <a:ext cx="213372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F3A5-FE35-4FF1-BAEF-2207F028694C}" type="slidenum">
              <a:t>23</a:t>
            </a:fld>
          </a:p>
        </p:txBody>
      </p:sp>
    </p:spTree>
  </p:cSld>
  <p:transition advTm="42000">
    <p:random/>
    <p:sndAc>
      <p:stSnd>
        <p:snd r:embed="rId5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44808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48783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6324480" y="2895480"/>
            <a:ext cx="19814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Add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按钮建立一个新的库和映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4572000"/>
            <a:ext cx="609480" cy="60948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971440" y="3276720"/>
            <a:ext cx="3352680" cy="1523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B03E-423E-4A0B-B12A-89E646915A01}" type="slidenum">
              <a:t>24</a:t>
            </a:fld>
          </a:p>
        </p:txBody>
      </p:sp>
    </p:spTree>
  </p:cSld>
  <p:transition advTm="9000">
    <p:random/>
    <p:sndAc>
      <p:stSnd>
        <p:snd r:embed="rId3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他的库命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指定的库中删除一个完整的库或者一个设计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000" spc="-1" strike="noStrike">
                <a:solidFill>
                  <a:srgbClr val="063de8"/>
                </a:solidFill>
                <a:latin typeface="Courier New"/>
              </a:rPr>
              <a:t>Design -&gt; Library Brow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删除库或者映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000" spc="-1" strike="noStrike">
                <a:solidFill>
                  <a:srgbClr val="063de8"/>
                </a:solidFill>
                <a:latin typeface="Courier New"/>
              </a:rPr>
              <a:t>Design -&gt; View Library Cont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删除设计单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library_name&gt; &lt;design_un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指定库的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000" spc="-1" strike="noStrike">
                <a:solidFill>
                  <a:srgbClr val="063de8"/>
                </a:solidFill>
                <a:latin typeface="Courier New"/>
              </a:rPr>
              <a:t>Design -&gt; View Library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d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library_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041F-A9AD-41A8-80A8-541283121D57}" type="slidenum">
              <a:t>25</a:t>
            </a:fld>
          </a:p>
        </p:txBody>
      </p:sp>
    </p:spTree>
  </p:cSld>
  <p:transition advTm="15000">
    <p:random/>
    <p:sndAc>
      <p:stSnd>
        <p:snd r:embed="rId1" name="typ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3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译源代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VHD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854568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-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library_name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file1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h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file2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按出现的顺序被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order/dependencies (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 V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缺省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Default Op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设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9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是第一个参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缺省编译到工作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com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9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_design.v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586728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注意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当库中涉及的设计单元被改变时设计单元必须重新分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72DD-0A2E-47D0-BDBF-6B51BE9F3BA6}" type="slidenum">
              <a:t>26</a:t>
            </a:fld>
          </a:p>
        </p:txBody>
      </p:sp>
    </p:spTree>
  </p:cSld>
  <p:transition advTm="0">
    <p:random/>
    <p:sndAc>
      <p:stSnd>
        <p:snd r:embed="rId1" name="typ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HDL Design Units Dependenc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219320"/>
            <a:ext cx="838224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befo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Declaration before Packag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units must compiled before being refere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before Entity/Architectures us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ies/Configurations before Architectures referenc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s are compil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6E75-4968-44A7-B57C-74331111077D}" type="slidenum">
              <a:t>27</a:t>
            </a:fld>
          </a:p>
        </p:txBody>
      </p:sp>
    </p:spTree>
  </p:cSld>
  <p:transition advTm="1000">
    <p:random/>
    <p:sndAc>
      <p:stSnd>
        <p:snd r:embed="rId1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3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译源代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Verilo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84693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l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-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library_name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file1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file2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按出现的顺序被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的顺序或者编辑的顺序不重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支持增量式编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缺省编译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lo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_design.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510552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注意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当库中涉及的设计单元被改变时设计单元必须重新分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2A16-BCF1-4110-BF3A-2783D45339FB}" type="slidenum">
              <a:t>28</a:t>
            </a:fld>
          </a:p>
        </p:txBody>
      </p:sp>
    </p:spTree>
  </p:cSld>
  <p:transition advTm="25000">
    <p:random/>
    <p:sndAc>
      <p:stSnd>
        <p:snd r:embed="rId1" name="typ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增量编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219320"/>
            <a:ext cx="838224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只有被改变的设计单元被编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动或者手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手动更有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动在命令行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inc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例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referenc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在仿真时解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些错误在编辑时将不能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用的模块没有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正确的端口连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正确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 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E369-4777-4272-B300-9D2BF9B3473A}" type="slidenum">
              <a:t>29</a:t>
            </a:fld>
          </a:p>
        </p:txBody>
      </p:sp>
    </p:spTree>
  </p:cSld>
  <p:transition advTm="31000">
    <p:random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7670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流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39340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计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计的行为或结构描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仿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el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功能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验证逻辑模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使用时间延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能要求编辑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综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把设计翻译成原始的目标工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最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2360" indent="-1580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合适的面积要求和性能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布局和布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映射设计到目标工艺里指定位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的布线资源应被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FACA-73B9-4105-82D3-EFC22D62E7DD}" type="slidenum">
              <a:t>3</a:t>
            </a:fld>
          </a:p>
        </p:txBody>
      </p:sp>
    </p:spTree>
  </p:cSld>
  <p:transition advTm="24000">
    <p:random/>
    <p:sndAc>
      <p:stSnd>
        <p:snd r:embed="rId1" name="typ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381480" cy="192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010040" cy="32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6934320" y="2895480"/>
            <a:ext cx="198108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亮一个或多个文件并点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124080" y="3276720"/>
            <a:ext cx="3810240" cy="6094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248160" y="3276720"/>
            <a:ext cx="685800" cy="1600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333B-FB21-4800-AF82-DB577911475D}" type="slidenum">
              <a:t>30</a:t>
            </a:fld>
          </a:p>
        </p:txBody>
      </p:sp>
    </p:spTree>
  </p:cSld>
  <p:transition advTm="12000">
    <p:random/>
    <p:sndAc>
      <p:stSnd>
        <p:snd r:embed="rId3" name="type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错误信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267080" y="1143000"/>
          <a:ext cx="472932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143000"/>
                    <a:ext cx="4729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52280" y="3124080"/>
            <a:ext cx="5810400" cy="3005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295280" y="1600200"/>
            <a:ext cx="190512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错误信息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zh-CN" sz="16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窗口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1981080"/>
            <a:ext cx="3657600" cy="5335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1828800"/>
            <a:ext cx="99072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4114800"/>
            <a:ext cx="213372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在信息上双击，引起错误的代码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Sour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窗口被点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047760" y="4419720"/>
            <a:ext cx="3352680" cy="7617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C3A8-F2A7-4DE9-AF14-1A5AA44E551A}" type="slidenum">
              <a:t>31</a:t>
            </a:fld>
          </a:p>
        </p:txBody>
      </p:sp>
    </p:spTree>
  </p:cSld>
  <p:transition advTm="0">
    <p:random/>
    <p:sndAc>
      <p:stSnd>
        <p:snd r:embed="rId4" name="typ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4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启动仿真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) 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Load New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-l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library_name&gt; &lt;top_level_desig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p_entity top_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/Architectur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也能选择一个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p_level1 top_leve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多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级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7B96-730C-4672-8009-217179E65060}" type="slidenum">
              <a:t>32</a:t>
            </a:fld>
          </a:p>
        </p:txBody>
      </p:sp>
    </p:spTree>
  </p:cSld>
  <p:transition advTm="35000">
    <p:random/>
    <p:sndAc>
      <p:stSnd>
        <p:snd r:embed="rId1" name="type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启动仿真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39120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4097160" cy="34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5715000" y="1447920"/>
            <a:ext cx="20574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仿真器的分辨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53080" y="2362320"/>
            <a:ext cx="8384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3200400"/>
            <a:ext cx="20574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顶级</a:t>
            </a: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modu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entity/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276360" y="1600200"/>
            <a:ext cx="2438280" cy="1371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800600" y="2514600"/>
            <a:ext cx="1752480" cy="7621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038480" y="3429000"/>
            <a:ext cx="2895840" cy="6094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B2A6-706C-4040-9318-1D5ACE6B0C96}" type="slidenum">
              <a:t>33</a:t>
            </a:fld>
          </a:p>
        </p:txBody>
      </p:sp>
    </p:spTree>
  </p:cSld>
  <p:transition advTm="19000">
    <p:random/>
    <p:sndAc>
      <p:stSnd>
        <p:snd r:embed="rId3" name="type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启动仿真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419720" y="1523880"/>
          <a:ext cx="433368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4333680" cy="3773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3124080" y="2895480"/>
          <a:ext cx="45529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895480"/>
                    <a:ext cx="4552920" cy="1648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914400" y="2286000"/>
            <a:ext cx="18288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指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DF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4343400"/>
            <a:ext cx="213372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使用定时值的等级的类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如果不是顶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514600"/>
            <a:ext cx="457200" cy="7621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666880" y="3733920"/>
            <a:ext cx="1524240" cy="8380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B152-EBBC-4B9F-B1D9-F2937EB42664}" type="slidenum">
              <a:t>34</a:t>
            </a:fld>
          </a:p>
        </p:txBody>
      </p:sp>
    </p:spTree>
  </p:cSld>
  <p:transition advTm="34000">
    <p:random/>
    <p:sndAc>
      <p:stSnd>
        <p:snd r:embed="rId5" name="type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的参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me_un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仿真的时间分辨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位可以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fs, ps, ns, ms, sec, min, hr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用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ca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使用整个设计中的最小的时间精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缺省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sdfmin | -sdftyp | -sdf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instance&gt;=&lt;sdf_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实例名也是可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没有使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D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于顶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B933-57B0-45DF-8EB1-5A0E1923E945}" type="slidenum">
              <a:t>35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0128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执行仿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6183360" cy="19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r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ime_step&gt; &lt;time_unit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定的时间长度执行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F0AD-0482-469A-B7C7-F0A643A4E23A}" type="slidenum">
              <a:t>36</a:t>
            </a:fld>
          </a:p>
        </p:txBody>
      </p:sp>
    </p:spTree>
  </p:cSld>
  <p:transition advTm="11000">
    <p:random/>
    <p:sndAc>
      <p:stSnd>
        <p:snd r:embed="rId1" name="typ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执行仿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572000" y="1905120"/>
          <a:ext cx="32497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05120"/>
                    <a:ext cx="3249720" cy="1847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1066680" y="2666880"/>
            <a:ext cx="22860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数量就可以执行仿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352680" y="2743200"/>
            <a:ext cx="2590920" cy="457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4267080"/>
            <a:ext cx="27432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star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重装任何已改动的设计元素并把仿真时间设为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) 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re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876920" y="3581280"/>
            <a:ext cx="1143000" cy="10670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494F-1AEE-4BEE-BC4E-11369396F7D5}" type="slidenum">
              <a:t>37</a:t>
            </a:fld>
          </a:p>
        </p:txBody>
      </p:sp>
    </p:spTree>
  </p:cSld>
  <p:transition advTm="26000">
    <p:random/>
    <p:sndAc>
      <p:stSnd>
        <p:snd r:embed="rId3" name="type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ru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参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选的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&lt;timesteps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me_un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运行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位可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fs, ps, ns, ms, sec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to the next HDL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续上次在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ste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断点后的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仿真器直到没有其他的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F64E-1C4B-4455-B2AD-885F305BB05D}" type="slidenum">
              <a:t>38</a:t>
            </a:fld>
          </a:p>
        </p:txBody>
      </p:sp>
    </p:spTree>
  </p:cSld>
  <p:transition advTm="15000">
    <p:random/>
    <p:sndAc>
      <p:stSnd>
        <p:snd r:embed="rId1" name="type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ru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举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从当前位置运行仿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 time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从当前位置运行仿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00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3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运行仿真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step 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4367-845F-4430-97A2-FDAA2209B228}" type="slidenum">
              <a:t>39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7670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流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066680"/>
            <a:ext cx="839340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门级仿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el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序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验证设计一旦编程或配置将能在目标工艺里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能要求编辑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序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验证合乎性能规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能要求编辑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版图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版图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板编程和测试器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EB62-5592-4334-B85F-34E650E0A6B7}" type="slidenum">
              <a:t>4</a:t>
            </a:fld>
          </a:p>
        </p:txBody>
      </p:sp>
    </p:spTree>
  </p:cSld>
  <p:transition advTm="10000">
    <p:random/>
    <p:sndAc>
      <p:stSnd>
        <p:snd r:embed="rId1" name="type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仿真器激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测试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常复杂的仿真 交互式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简单的模块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直接从命令控制台输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O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宏文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C0ED-3CE5-4293-A1BD-F0231580D6AD}" type="slidenum">
              <a:t>40</a:t>
            </a:fld>
          </a:p>
        </p:txBody>
      </p:sp>
    </p:spTree>
  </p:cSld>
  <p:transition advTm="20000">
    <p:random/>
    <p:sndAc>
      <p:stSnd>
        <p:snd r:embed="rId1" name="type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允许用户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信号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线网予以激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规语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item_name&gt; &lt;value&gt; &lt;time&gt;, &lt;value&gt; &lt;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item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被激励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的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需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是一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a scalar or one-dimensional array of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6920" indent="-2286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n indexed array, array slice, or record sub-element as long as its of the abov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wildcards as long as only one match is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BF7E-5E2A-4840-9B1C-CB2A805710FA}" type="slidenum">
              <a:t>41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他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被强制的项的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适合项的数据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需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值的时间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对于当前的仿真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3240" indent="-226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charact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绝对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单位能被指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3240" indent="-226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缺省值是仿真分辨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33560" cy="21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301A-348D-42B6-8EF9-8D54140D8081}" type="slidenum">
              <a:t>42</a:t>
            </a:fld>
          </a:p>
        </p:txBody>
      </p:sp>
    </p:spTree>
  </p:cSld>
  <p:transition advTm="19000">
    <p:random/>
    <p:sndAc>
      <p:stSnd>
        <p:snd r:embed="rId2" name="type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69360" y="1204920"/>
            <a:ext cx="834732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他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r[epeat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指定周期重复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for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canc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指定周期后取消强制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for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9FC4-F9D2-4D60-940E-C88D1D67B6AD}" type="slidenum">
              <a:t>43</a:t>
            </a:fld>
          </a:p>
        </p:txBody>
      </p:sp>
    </p:spTree>
  </p:cSld>
  <p:transition advTm="7000">
    <p:random/>
    <p:sndAc>
      <p:stSnd>
        <p:snd r:embed="rId1" name="type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举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当前仿真时间强制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s1 01XZ 10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当前仿真时间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强制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X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s2 16#4F @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仿真启动后强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直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辨率在仿真启动时选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k 0 0, 1 20 -repeat 50 -cancel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当前仿真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强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强制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重复直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发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k2 1 10 ns, 0 {20 ns} -r 10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上一个例子相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面的时间单位表达式必须放在大括号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10B6-9F7A-423F-9A04-CC2FC96EE303}" type="slidenum">
              <a:t>44</a:t>
            </a:fld>
          </a:p>
        </p:txBody>
      </p:sp>
    </p:spTree>
  </p:cSld>
  <p:transition advTm="27000">
    <p:random/>
    <p:sndAc>
      <p:stSnd>
        <p:snd r:embed="rId1" name="type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动完成仿真步骤的宏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强制仿真激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在所有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式里被调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000" spc="-1" strike="noStrike">
                <a:solidFill>
                  <a:srgbClr val="063de8"/>
                </a:solidFill>
                <a:latin typeface="Courier New"/>
              </a:rPr>
              <a:t>Macro -&gt;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)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filename&gt;.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调用其他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22640" y="2895480"/>
            <a:ext cx="1783800" cy="2040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cd c:\my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lib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com counter.v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sim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iew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list /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do run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513A-63B7-4AAF-9903-706F2EEE5903}" type="slidenum">
              <a:t>45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举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733560" cy="403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c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-hex /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clk 0 0, 1 50 -repeat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clr 0 0, 1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run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load 1 0, 0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data 16#A5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clk 0 0, 1 50 -repeat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run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5000" y="1752480"/>
            <a:ext cx="1783800" cy="1554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cd c:\my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lib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com counter.v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sim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iew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do stimulus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49240" y="135576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_sim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25000" y="137160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mulus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A471-995F-4B06-B669-3212ED89BA44}" type="slidenum">
              <a:t>46</a:t>
            </a:fld>
          </a:p>
        </p:txBody>
      </p:sp>
    </p:spTree>
  </p:cSld>
  <p:transition advTm="6000">
    <p:random/>
    <p:sndAc>
      <p:stSnd>
        <p:snd r:embed="rId1" name="type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477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E090-CEA3-464F-B5FE-AA91D7E21ACF}" type="slidenum">
              <a:t>47</a:t>
            </a:fld>
          </a:p>
        </p:txBody>
      </p:sp>
    </p:spTree>
  </p:cSld>
  <p:transition advTm="2000">
    <p:random/>
    <p:sndAc>
      <p:stSnd>
        <p:snd r:embed="rId2" name="type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特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九个窗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main, structure, source, signals, process, variables, dataflow, wave,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zh-CN" sz="20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list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支持任何窗口的多个副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拖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个窗口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鼠标左键，这些项能被从一个窗口拖和放到另一个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可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Dataflow, List, Signals, Source, Structure, Variabl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Wave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窗口拖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把它们放到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List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W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2895480"/>
            <a:ext cx="548640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注意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i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窗口只允许存在一个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因为这个窗口控制仿真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C0C6-4DE1-47A7-B64E-E0670934014A}" type="slidenum">
              <a:t>48</a:t>
            </a:fld>
          </a:p>
        </p:txBody>
      </p:sp>
    </p:spTree>
  </p:cSld>
  <p:transition advTm="32000">
    <p:random/>
    <p:sndAc>
      <p:stSnd>
        <p:snd r:embed="rId1" name="type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1204920"/>
            <a:ext cx="84884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delSim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设计加载前的提示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浏览帮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辑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辑源代码而不用调用一个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SIM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计加载后显示的提示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告诉我们仿真器的行为动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声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91120" y="3352680"/>
          <a:ext cx="469584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352680"/>
                    <a:ext cx="4695840" cy="2667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B9874-5EA3-4856-B942-E33977A53A7E}" type="slidenum">
              <a:t>49</a:t>
            </a:fld>
          </a:p>
        </p:txBody>
      </p:sp>
    </p:spTree>
  </p:cSld>
  <p:transition advTm="0">
    <p:random/>
    <p:sndAc>
      <p:stSnd>
        <p:snd r:embed="rId3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6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概览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1752480" cy="17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3A9A4-5113-44D5-A0E0-9050E8B10D76}" type="slidenum">
              <a:t>5</a:t>
            </a:fld>
          </a:p>
        </p:txBody>
      </p:sp>
    </p:spTree>
  </p:cSld>
  <p:transition advTm="4000">
    <p:random/>
    <p:sndAc>
      <p:stSnd>
        <p:snd r:embed="rId2" name="type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69360" y="1204920"/>
            <a:ext cx="834732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Menu -&gt; Brows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入新库或编辑已有的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浏览和编辑库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5181480" cy="33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4B57-05C4-4AC4-A6B3-80F3FB4CFAF7}" type="slidenum">
              <a:t>50</a:t>
            </a:fld>
          </a:p>
        </p:txBody>
      </p:sp>
    </p:spTree>
  </p:cSld>
  <p:transition advTm="15000">
    <p:random/>
    <p:sndAc>
      <p:stSnd>
        <p:snd r:embed="rId2" name="type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启动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181480" y="1218960"/>
            <a:ext cx="37641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于选择要加载的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分辨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iers of 1, 10, and 100 each time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顶级设计单元的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顶级设计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/Architectur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构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41936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76320" y="5181480"/>
            <a:ext cx="5486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Me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     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-&gt; Load New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66880" y="6248520"/>
            <a:ext cx="38862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library_name&gt; &lt;top_level_design_uni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01E6-2963-444D-A37B-534AB2912024}" type="slidenum">
              <a:t>51</a:t>
            </a:fld>
          </a:p>
        </p:txBody>
      </p:sp>
    </p:spTree>
  </p:cSld>
  <p:transition advTm="35000">
    <p:random/>
    <p:sndAc>
      <p:stSnd>
        <p:snd r:embed="rId2" name="type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Options Menu -&gt; Simul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486400" cy="384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5EC8-86FC-4B50-914A-2A4A61C89592}" type="slidenum">
              <a:t>52</a:t>
            </a:fld>
          </a:p>
        </p:txBody>
      </p:sp>
    </p:spTree>
  </p:cSld>
  <p:transition advTm="18000">
    <p:random/>
    <p:sndAc>
      <p:stSnd>
        <p:snd r:embed="rId2" name="type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tructu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54975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计的结构多层浏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(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Package, component instantiation, generate and block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modu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named fork, named begin, task,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iation label, entity/module,                                   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为当前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g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pda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021360" y="1676520"/>
            <a:ext cx="2760840" cy="43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6FE4-013A-4708-B083-D6FD19E060C7}" type="slidenum">
              <a:t>53</a:t>
            </a:fld>
          </a:p>
        </p:txBody>
      </p:sp>
    </p:spTree>
  </p:cSld>
  <p:transition advTm="13000">
    <p:random/>
    <p:sndAc>
      <p:stSnd>
        <p:snd r:embed="rId2" name="type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ou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3469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菜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源代码的控制浏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-co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符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识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统任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完全的编辑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译和重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拖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变量和常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724280" cy="29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9" name=""/>
          <p:cNvSpPr/>
          <p:nvPr/>
        </p:nvSpPr>
        <p:spPr>
          <a:xfrm>
            <a:off x="3657600" y="632448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7175-FCD2-40A6-8A5C-B2ACE92F7339}" type="slidenum">
              <a:t>54</a:t>
            </a:fld>
          </a:p>
        </p:txBody>
      </p:sp>
    </p:spTree>
  </p:cSld>
  <p:transition advTm="22000">
    <p:random/>
    <p:sndAc>
      <p:stSnd>
        <p:snd r:embed="rId2" name="type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ou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所选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的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所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当前仿真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724280" cy="29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3" name=""/>
          <p:cNvSpPr/>
          <p:nvPr/>
        </p:nvSpPr>
        <p:spPr>
          <a:xfrm>
            <a:off x="990720" y="4114800"/>
            <a:ext cx="266688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0128"/>
                </a:solidFill>
                <a:latin typeface="Arial"/>
              </a:rPr>
              <a:t>1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高亮信号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常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或寄存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2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右击鼠标并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063de8"/>
                </a:solidFill>
                <a:latin typeface="Courier New"/>
              </a:rPr>
              <a:t>Object Menu 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Courier New"/>
              </a:rPr>
              <a:t>    </a:t>
            </a:r>
            <a:r>
              <a:rPr b="1" i="1" lang="en-US" sz="1400" spc="-1" strike="noStrike">
                <a:solidFill>
                  <a:srgbClr val="063de8"/>
                </a:solidFill>
                <a:latin typeface="Courier New"/>
              </a:rPr>
              <a:t>Examine/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352680" y="4572000"/>
            <a:ext cx="198144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352680" y="4876560"/>
            <a:ext cx="2362320" cy="759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655E-48B1-438F-A875-BB68918A67FA}" type="slidenum">
              <a:t>55</a:t>
            </a:fld>
          </a:p>
        </p:txBody>
      </p:sp>
    </p:spTree>
  </p:cSld>
  <p:transition advTm="19000">
    <p:random/>
    <p:sndAc>
      <p:stSnd>
        <p:snd r:embed="rId2" name="type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roces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123720" y="1142640"/>
            <a:ext cx="56041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显示外部和内部的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View -&gt;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all processes scheduled for execution during the current simulation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View -&gt;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names of all processes in the region selected in the Structur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819520" cy="26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34FA-6AF8-4462-AFA6-8D0BD4B1CE6E}" type="slidenum">
              <a:t>56</a:t>
            </a:fld>
          </a:p>
        </p:txBody>
      </p:sp>
    </p:spTree>
  </p:cSld>
  <p:transition advTm="25000">
    <p:random/>
    <p:sndAc>
      <p:stSnd>
        <p:snd r:embed="rId2" name="type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roces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123720" y="1142640"/>
            <a:ext cx="56041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示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&lt;Rea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is scheduled to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&lt;Wa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理正等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号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网改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等待超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&lt;Do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has executed a VHDL wait statement without a time-out or sensitivity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52280" y="1295280"/>
          <a:ext cx="2819520" cy="26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281952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C967-C0DE-4C3F-A302-B26BA509EABC}" type="slidenum">
              <a:t>57</a:t>
            </a:fld>
          </a:p>
        </p:txBody>
      </p:sp>
    </p:spTree>
  </p:cSld>
  <p:transition advTm="18000">
    <p:random/>
    <p:sndAc>
      <p:stSnd>
        <p:snd r:embed="rId3" name="type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ignal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紧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的当前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项的名称和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排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升序，降序或声明顺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(+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展开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-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已展开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寄存器变量和已命名的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拖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于激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浏览选择信号类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356520" y="2666880"/>
            <a:ext cx="25524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8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8FF4-BF95-4CAE-BD39-276750ADC28F}" type="slidenum">
              <a:t>58</a:t>
            </a:fld>
          </a:p>
        </p:txBody>
      </p:sp>
    </p:spTree>
  </p:cSld>
  <p:transition advTm="27000">
    <p:random/>
    <p:sndAc>
      <p:stSnd>
        <p:snd r:embed="rId2" name="type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Datafl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4419720"/>
            <a:ext cx="8347320" cy="16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网的图形描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号或线网在窗口中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that drive signal or net on th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that read the signal or are triggered by the net on the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429000" cy="2971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BC11-1BCA-4711-8406-8CC45C746CE3}" type="slidenum">
              <a:t>59</a:t>
            </a:fld>
          </a:p>
        </p:txBody>
      </p:sp>
    </p:spTree>
  </p:cSld>
  <p:transition advTm="21000">
    <p:random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仿真工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69360" y="1204920"/>
            <a:ext cx="5954760" cy="48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技术公司开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业上最通用的仿真器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版本允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 u="sng">
                <a:solidFill>
                  <a:srgbClr val="fc0128"/>
                </a:solidFill>
                <a:uFillTx/>
                <a:latin typeface="Arial"/>
              </a:rPr>
              <a:t>或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24480" y="1905120"/>
            <a:ext cx="2286000" cy="2273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324480" y="4400640"/>
            <a:ext cx="2286000" cy="457200"/>
          </a:xfrm>
          <a:prstGeom prst="rect">
            <a:avLst/>
          </a:prstGeom>
          <a:ln w="0">
            <a:noFill/>
          </a:ln>
        </p:spPr>
      </p:pic>
    </p:spTree>
  </p:cSld>
  <p:transition advTm="13000">
    <p:random/>
    <p:sndAc>
      <p:stSnd>
        <p:snd r:embed="rId3" name="type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429000" cy="29718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Datafl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520" y="4419720"/>
            <a:ext cx="8347320" cy="16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read by or nets that trigger the process on th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or nets driven by the process on the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Double clicking update of signal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60A9-6B6A-480B-B47A-EAD9C299F327}" type="slidenum">
              <a:t>60</a:t>
            </a:fld>
          </a:p>
        </p:txBody>
      </p:sp>
    </p:spTree>
  </p:cSld>
  <p:transition advTm="9000">
    <p:random/>
    <p:sndAc>
      <p:stSnd>
        <p:snd r:embed="rId2" name="type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Wa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9360" y="1204920"/>
            <a:ext cx="8347320" cy="22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波形浏览仿真结果的图形化的历史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号和过程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寄存器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已命名事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更多的逻辑信号多个波形窗口用于更多的逻辑信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改变信号和向量的基数已方便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印波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5259600" cy="2616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571800" y="4049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拖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64680" y="342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缩放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64680" y="458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项格式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64680" y="5116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个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73520" y="6045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强大的编辑和查找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55000" y="35305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64771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A684-B004-435C-8B04-023906021EA7}" type="slidenum">
              <a:t>61</a:t>
            </a:fld>
          </a:p>
        </p:txBody>
      </p:sp>
    </p:spTree>
  </p:cSld>
  <p:transition advTm="116000">
    <p:random/>
    <p:sndAc>
      <p:stSnd>
        <p:snd r:embed="rId2" name="type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Li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表格显示仿真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号和过程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网和寄存器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这个窗口或到这个窗口“拖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辑功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建立用户定义的总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dit&gt;Com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触发和选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List - Tabular, Event or T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r - Add, Delete or 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4172040" cy="26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9" name=""/>
          <p:cNvSpPr/>
          <p:nvPr/>
        </p:nvSpPr>
        <p:spPr>
          <a:xfrm>
            <a:off x="3657600" y="640080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018B-3023-4F76-8F86-C1CE7E6059FD}" type="slidenum">
              <a:t>62</a:t>
            </a:fld>
          </a:p>
        </p:txBody>
      </p:sp>
    </p:spTree>
  </p:cSld>
  <p:transition advTm="10000">
    <p:random/>
    <p:sndAc>
      <p:stSnd>
        <p:snd r:embed="rId2" name="type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Variab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00040" y="1204560"/>
            <a:ext cx="57150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列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的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常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eneric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变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寄存器变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当前过程的路径被显示在左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树层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(+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展开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-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展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升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降序或声明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改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改变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浏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的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变量或层中的变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9480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3" name=""/>
          <p:cNvSpPr/>
          <p:nvPr/>
        </p:nvSpPr>
        <p:spPr>
          <a:xfrm>
            <a:off x="3657600" y="617220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32C7-4E51-4D48-ADA2-D3DF712BE050}" type="slidenum">
              <a:t>63</a:t>
            </a:fld>
          </a:p>
        </p:txBody>
      </p:sp>
    </p:spTree>
  </p:cSld>
  <p:transition advTm="9000">
    <p:random/>
    <p:sndAc>
      <p:stSnd>
        <p:snd r:embed="rId2" name="type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特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动更新窗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flow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一个进程被选到这个窗口的中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, Signals, Source, Structur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会被更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一个进程被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flow, Signals, Structur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被更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被选择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f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是唯一被更新的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从你的设计结构中层次浏览中的一个被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g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将自动更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DEE9-9552-4F37-BB33-2959F2B259CF}" type="slidenum">
              <a:t>64</a:t>
            </a:fld>
          </a:p>
        </p:txBody>
      </p:sp>
    </p:spTree>
  </p:cSld>
  <p:transition advTm="0">
    <p:random/>
    <p:sndAc>
      <p:stSnd>
        <p:snd r:embed="rId1" name="type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84693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查找名称或搜索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除两个窗口外其他窗口都允许用户通过菜单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it&gt;Fi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查找项名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f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没有这个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通过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it&gt;Searc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搜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排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it&gt;S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菜单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能被排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升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降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声明顺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缺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些项按被声明的顺序排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584F-39DD-44BC-8E6D-5025B2FDBF78}" type="slidenum">
              <a:t>65</a:t>
            </a:fld>
          </a:p>
        </p:txBody>
      </p:sp>
    </p:spTree>
  </p:cSld>
  <p:transition advTm="24000">
    <p:random/>
    <p:sndAc>
      <p:stSnd>
        <p:snd r:embed="rId1" name="type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特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个窗口副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主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ew&gt;Ne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菜单选项建立额外的相同窗口的副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DB05-20E6-41BB-815A-B96A507D68A0}" type="slidenum">
              <a:t>66</a:t>
            </a:fld>
          </a:p>
        </p:txBody>
      </p:sp>
    </p:spTree>
  </p:cSld>
  <p:transition advTm="10000">
    <p:random/>
    <p:sndAc>
      <p:stSnd>
        <p:snd r:embed="rId1" name="type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调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什么时候调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译失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正确或意外的仿真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调试能力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监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6520-6A4B-492E-AE68-64E6188AD372}" type="slidenum">
              <a:t>67</a:t>
            </a:fld>
          </a:p>
        </p:txBody>
      </p:sp>
    </p:spTree>
  </p:cSld>
  <p:transition advTm="15000">
    <p:random/>
    <p:sndAc>
      <p:stSnd>
        <p:snd r:embed="rId1" name="type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监视更多的信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给跟踪加入附加的信号或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选择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, Signal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 “拖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6880-5518-4664-9D34-7B1072EEFED2}" type="slidenum">
              <a:t>68</a:t>
            </a:fld>
          </a:p>
        </p:txBody>
      </p:sp>
    </p:spTree>
  </p:cSld>
  <p:transition advTm="6000">
    <p:random/>
    <p:sndAc>
      <p:stSnd>
        <p:snd r:embed="rId1" name="type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断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支持两种类型的断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源代码窗口设置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gles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再次点击删除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断点数量的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3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file_name&gt; &lt;line#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条件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&lt;condition&gt; &lt;ac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{b=1 and c/=0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网和寄存器一起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也可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file_name&gt; &lt;line#&gt; {if{$now/=100}then{cont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96C8-A88A-4112-99F8-118E610941A5}" type="slidenum">
              <a:t>69</a:t>
            </a:fld>
          </a:p>
        </p:txBody>
      </p:sp>
    </p:spTree>
  </p:cSld>
  <p:transition advTm="11000">
    <p:random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5497560" cy="38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V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者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许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但是不同时许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计者能立刻混合仿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要的版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所有功能连同附加功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9920" y="1230480"/>
            <a:ext cx="2671560" cy="2298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19920" y="3657600"/>
            <a:ext cx="2684520" cy="234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57FC-CF06-41BF-8DF2-BF9570555C22}" type="slidenum">
              <a:t>7</a:t>
            </a:fld>
          </a:p>
        </p:txBody>
      </p:sp>
    </p:spTree>
  </p:cSld>
  <p:transition advTm="11000">
    <p:random/>
    <p:sndAc>
      <p:stSnd>
        <p:snd r:embed="rId3" name="type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项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集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目录和子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器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允许你保留当前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项目目录里保存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PF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仍然支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IN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目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-&gt; New / Open / 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0BE4-6F6A-4B2D-9F18-042B82E2625B}" type="slidenum">
              <a:t>70</a:t>
            </a:fld>
          </a:p>
        </p:txBody>
      </p:sp>
    </p:spTree>
  </p:cSld>
  <p:transition advTm="10000">
    <p:random/>
    <p:sndAc>
      <p:stSnd>
        <p:snd r:embed="rId1" name="type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sim.in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用户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安装目录一个缺省文件被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im.in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编译器和仿真器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有初始信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启动文件的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其他缺省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下列顺序搜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im.i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环境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 variable called MODELSIM which points directly to the modelsim.ini file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file called modelsim.ini located in the current working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缺省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im.in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i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软件安装树目录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F7A0-3C2D-40F6-AB88-F737C177280C}" type="slidenum">
              <a:t>71</a:t>
            </a:fld>
          </a:p>
        </p:txBody>
      </p:sp>
    </p:spTree>
  </p:cSld>
  <p:transition advTm="47000">
    <p:random/>
    <p:sndAc>
      <p:stSnd>
        <p:snd r:embed="rId1" name="type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up.do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脚本自动执行通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例文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up.d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就象这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wave.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调用一个启动文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未注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移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”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im.in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行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提供路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Startup = do /path ..../startup.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158A-6872-46ED-AB94-9BA2A371A378}" type="slidenum">
              <a:t>72</a:t>
            </a:fld>
          </a:p>
        </p:txBody>
      </p:sp>
    </p:spTree>
  </p:cSld>
  <p:transition advTm="21000">
    <p:random/>
    <p:sndAc>
      <p:stSnd>
        <p:snd r:embed="rId1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EM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供完全的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7 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3 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1364-’95 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F 1.0 -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L 2.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L ‘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易用的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用的平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E680-5A95-43CC-9246-DFE690C96E80}" type="slidenum">
              <a:t>8</a:t>
            </a:fld>
          </a:p>
        </p:txBody>
      </p:sp>
    </p:spTree>
  </p:cSld>
  <p:transition advTm="6000">
    <p:random/>
    <p:sndAc>
      <p:stSnd>
        <p:snd r:embed="rId1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95320" y="1752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600" spc="-1" strike="noStrike">
                <a:solidFill>
                  <a:srgbClr val="063de8"/>
                </a:solidFill>
                <a:latin typeface="Arial"/>
              </a:rPr>
              <a:t>Sim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2286000" cy="2273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6520" y="5315040"/>
            <a:ext cx="228600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BF4C-11B0-49D8-BC77-CDBB7145B9CC}" type="slidenum">
              <a:t>9</a:t>
            </a:fld>
          </a:p>
        </p:txBody>
      </p:sp>
    </p:spTree>
  </p:cSld>
  <p:transition advTm="6000">
    <p:random/>
    <p:sndAc>
      <p:stSnd>
        <p:snd r:embed="rId3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1:08:45Z</dcterms:created>
  <dc:creator>张冬平</dc:creator>
  <dc:description/>
  <dc:language>en-US</dc:language>
  <cp:lastModifiedBy>wuxinhua</cp:lastModifiedBy>
  <cp:lastPrinted>2000-08-02T19:25:09Z</cp:lastPrinted>
  <dcterms:modified xsi:type="dcterms:W3CDTF">2005-05-30T03:28:24Z</dcterms:modified>
  <cp:revision>473</cp:revision>
  <dc:subject>ver. 2</dc:subject>
  <dc:title>Modelsim中文教程</dc:title>
</cp:coreProperties>
</file>