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ECF3D-C4F0-4C7A-B9CA-1422BD0C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5E840-83BE-4A69-B9DB-1BC2990F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2A3DC-C49E-454B-9416-6FAEACD5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7FF22-0914-4B0A-8830-AF0B2A32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8337-5E6C-43CE-9E9F-0E0C103D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318C-8DFC-4F77-A82E-25BA8453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9F58-69F4-4B41-9617-3FB8AC5A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4E39-E9D6-4245-AD23-B5C85C6A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3CED-5ED8-412F-B55F-206564D5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5C5C-FC9A-4C09-AF58-06FF200C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1479-80C7-4129-9223-C3A4A3C8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BF182-B168-4980-A047-D0063DF8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9DC8-36B1-449A-98A1-3376446E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63A9-45C0-4343-A416-D5A6927C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1941-AF92-43A3-B2D6-A4A730EF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67CB-03AF-4EFB-A1D1-E7C9D6F7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11A1-0557-4952-872C-A527B274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27FA4-52BD-4302-A50B-90A15CD5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45197-DF08-4228-BCD3-41E6C99D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F45FB-589E-481B-9C69-2998932B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17D23-C348-4941-BD55-25549714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B0D7B-4852-4A04-8020-48051777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08F5D-9526-4794-B240-8CCADBAF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6BE37-8047-4B23-9353-DF2FDDC5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5F6F-7850-4CAD-88D4-4D68CF0D754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FD70-BB64-4B78-BDF7-D6AE4AEC8D8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736640"/>
            <a:ext cx="820728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5e5ff"/>
                </a:solidFill>
                <a:latin typeface="Garamond"/>
              </a:rPr>
              <a:t>费用报销系统功能介绍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东莞市蓝软坊信息技术有限公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0769-22388095 89870749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tech@lanruanfang.com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Ⅰ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基础资料与权限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一、部门资料设置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二、用户资料设置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三、预算科目设置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四、权限配置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）操作权限分配——每个用户登陆以后具有的操作权限；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）环节审核权限——为报销单和出差申请单设置审核用户；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）数据限制权限——不同角色或用户能够看到的数据范围不同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五、系统参数设置——启用的起始月份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Ⅱ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预算发布与结算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一、预算编制与发布——在预算编制模块中通过点击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发布预算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按钮使年度（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季度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月度）预算正式生效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二、月末结转——每个月的报销入账完毕以后需要结转（如果本月处于预算期的末月份则同时进行预算的结算，结算以后通过上一步骤发布并执行新一期的预算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Ⅲ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出差与报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一、出差申请单——申请人根据报销标准计算预支借款并填报出差申请单，经过审核以后到出纳借款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二、费用报销单——各类费用报销入账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三、预算调整单——发布以后的预算可以根据需要进行调整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单据的审核、复核、记账环节是可选的，根据需要灵活配置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Ⅳ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统计分析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一、费用报销与预算对比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二、本期费用与上一期对比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三、报销明细核对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四、其他各种查询和统计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备注：可根据需要对软件功能进行调整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4T09:23:29Z</dcterms:created>
  <dc:creator>Administrator</dc:creator>
  <dc:description/>
  <dc:language>en-US</dc:language>
  <cp:lastModifiedBy>Administrator</cp:lastModifiedBy>
  <dcterms:modified xsi:type="dcterms:W3CDTF">2012-07-24T10:09:45Z</dcterms:modified>
  <cp:revision>2</cp:revision>
  <dc:subject/>
  <dc:title>费用报销系统功能介绍</dc:title>
</cp:coreProperties>
</file>